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  <p:sldId id="316" r:id="rId88"/>
    <p:sldId id="317" r:id="rId89"/>
    <p:sldId id="318" r:id="rId90"/>
    <p:sldId id="319" r:id="rId91"/>
    <p:sldId id="320" r:id="rId92"/>
    <p:sldId id="321" r:id="rId93"/>
    <p:sldId id="322" r:id="rId94"/>
    <p:sldId id="323" r:id="rId95"/>
    <p:sldId id="324" r:id="rId96"/>
    <p:sldId id="325" r:id="rId97"/>
    <p:sldId id="326" r:id="rId98"/>
    <p:sldId id="327" r:id="rId99"/>
    <p:sldId id="328" r:id="rId100"/>
    <p:sldId id="329" r:id="rId101"/>
    <p:sldId id="330" r:id="rId102"/>
    <p:sldId id="331" r:id="rId103"/>
    <p:sldId id="332" r:id="rId104"/>
    <p:sldId id="333" r:id="rId10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slide" Target="slides/slide61.xml"/><Relationship Id="rId89" Type="http://schemas.openxmlformats.org/officeDocument/2006/relationships/slide" Target="slides/slide62.xml"/><Relationship Id="rId90" Type="http://schemas.openxmlformats.org/officeDocument/2006/relationships/slide" Target="slides/slide63.xml"/><Relationship Id="rId91" Type="http://schemas.openxmlformats.org/officeDocument/2006/relationships/slide" Target="slides/slide64.xml"/><Relationship Id="rId92" Type="http://schemas.openxmlformats.org/officeDocument/2006/relationships/slide" Target="slides/slide65.xml"/><Relationship Id="rId93" Type="http://schemas.openxmlformats.org/officeDocument/2006/relationships/slide" Target="slides/slide66.xml"/><Relationship Id="rId94" Type="http://schemas.openxmlformats.org/officeDocument/2006/relationships/slide" Target="slides/slide67.xml"/><Relationship Id="rId95" Type="http://schemas.openxmlformats.org/officeDocument/2006/relationships/slide" Target="slides/slide68.xml"/><Relationship Id="rId96" Type="http://schemas.openxmlformats.org/officeDocument/2006/relationships/slide" Target="slides/slide69.xml"/><Relationship Id="rId97" Type="http://schemas.openxmlformats.org/officeDocument/2006/relationships/slide" Target="slides/slide70.xml"/><Relationship Id="rId98" Type="http://schemas.openxmlformats.org/officeDocument/2006/relationships/slide" Target="slides/slide71.xml"/><Relationship Id="rId99" Type="http://schemas.openxmlformats.org/officeDocument/2006/relationships/slide" Target="slides/slide72.xml"/><Relationship Id="rId100" Type="http://schemas.openxmlformats.org/officeDocument/2006/relationships/slide" Target="slides/slide73.xml"/><Relationship Id="rId101" Type="http://schemas.openxmlformats.org/officeDocument/2006/relationships/slide" Target="slides/slide74.xml"/><Relationship Id="rId102" Type="http://schemas.openxmlformats.org/officeDocument/2006/relationships/slide" Target="slides/slide75.xml"/><Relationship Id="rId103" Type="http://schemas.openxmlformats.org/officeDocument/2006/relationships/slide" Target="slides/slide76.xml"/><Relationship Id="rId104" Type="http://schemas.openxmlformats.org/officeDocument/2006/relationships/slide" Target="slides/slide77.xml"/><Relationship Id="rId105" Type="http://schemas.openxmlformats.org/officeDocument/2006/relationships/slide" Target="slides/slide78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5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ftr" idx="5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 type="sldNum" idx="5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CC3C-B06F-4EFB-A013-F105337482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 cadre budgétaire et le rendre plus l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s règles de notification, de gestion et de suivi des créd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s procédures de modifications budgét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uivre financièrement les actions du projet d’établiss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Rendre compte en temps réel de l’utilisation des subventions et des moyens attribués aux établiss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F44-23AF-4714-B528-FECF60F8B9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8BE-8827-4FEF-BCA6-0E3CCCC0EB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la section investissement insister sur son allègement (pas d’écriture de variation de stocks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2A2-D42C-4276-986C-DB37D6548D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C12-6BB5-4C9F-9022-471DF7C418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la section investissement insister sur son allègement (pas d’écriture de variation de stocks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FE19-2A15-4EB4-A6F9-628CD21F43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01CE-DF70-45BB-8C3E-69E8826120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F66-6AF5-4EA4-BC2D-F1ECD98D23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annexe nous pourrions distribuer le tableau récapitulatif déjà établi par Loï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787-2662-4911-8166-57D13216AA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d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1CAE-3FC0-412D-BBA3-1C61E6D308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dem mais en développant l’idée d’analyse par code de gestion des pratiques actuelles au sein de la plupart des E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E41F-CBFD-46B9-83B6-758ED64423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restauration et l’hébergement seront repris dans le cadre des budgets annexes ultérieur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ttention un compte financier à part, trésorerie à part (compte 185), réserves à part. Opérations en capital propres =&gt; amortiss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ttente  pour savoir si la collectivité peut demander un budget annex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3D4-A221-4388-9993-E5C2CF42C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738360" y="57780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Inscription dans l’esprit de la LOLF (200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Logique de pilotage par résul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Intègre une plus large autono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Pour une meilleure utilisation des moy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Avec des objectifs fixés pa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l’autorité académiq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les collectivités territori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 cadre budgétaire et le rendre plus l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s règles de notification, de gestion et de suivi des créd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implifier les procédures de modifications budgét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Suivre financièrement les actions du projet d’établiss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Rendre compte en temps réel de l’utilisation des subventions et des moyens attribués aux établiss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D4E-E21F-4D4F-B0D6-37D10A52DF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création des service spéciaux suppose que l’on puisse suivre avec précision l’imputation des dépenses et l’origine des recettes (attention à la notion d’agence comptable : elle doit correspondre à l’existence d’une véritable cellule comptable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560-5E13-46E0-8D42-4FEEB01067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811080" y="57780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593280" y="46814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e remarquer vous rien? Et les stocks al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A6F0-3EA9-4ACB-B94B-2C31F96B67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imple mais qui martèle l’idée générale relative au PC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74FF-0630-475B-822A-560DC6E910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66360" y="482616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activités de l ’établissement priment et sont retracées de façon visible dans le budg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construction budgétaire est au service de l’EPLE et non le contr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Prise en compte de la destination de la dépense dans le dom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Prise en compte de l’origine des financements par bailleur dans le code activi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Calibri"/>
              </a:rPr>
              <a:t>Permettre de prendre en compte les spécificités de certains EPLE et les choix de la collectivité domaines/activités/sservices spécia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D80-8A71-4567-8B59-D542FB708A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ttendre que le financeur demande . (la demande pour un rendu-compte automatique d’extraction de données) Donc, 0 pour beaucoup d’activit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is GFC web permettra des « reporting » aisés de l’utilisation des financ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448-C583-43E2-A942-C7BD4C21D2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emière ligne : On a choisi de codifier l’’activité voyage USA avec les caractères « TERM3 indiquant qu’il s’agit du voyage d’une classe de terminale alors qu’une autre classe doit partir aussi. Dans ce cas l’utilisation de 7caractères est intéress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 la 2De ligne, nous avons indiqué qu’il s’agissait des manuels scolaires des élèves de 6EME ; nous aurions pu avoir à codifier les manuels de SEGPA (besoins éducatifs particuli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291-795D-4C6B-866C-6DF90A256E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ableau emprunté au diaporama de présentation aux académ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3F4-37B6-4409-8E20-3531DC681F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ode d’activité, est défini sur 5 caractères les 4 derniers caractères sont à la libre appréciation des utilisateurs. Les codes relatifs aux charges ou aux produits exceptionnels relatifs aux opération de l’année N-1  sont obligatoirement utilisés avec l’extourne. Ils peuvent aussi être utilisés si la méthode de l’ordre de paiement est utilis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codes surlignées en jaune correspondent à des opérations qui ne nécessitent pas d’ouvertures de crédits pour être exécut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12F6-3D04-4290-BD3C-D91D03E7F8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877-6FAB-4667-A3EA-01E9ED340D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530-3630-449B-A059-FBC787708B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budget type est un budget qui comprend les trois services généraux, un service spécial « bourses nationales » et un service spécial « restauration hébergement 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budget minimal comprend les trois services généraux et un service spécial  « bourses nationales », le service de restauration hébergement pouvant être suivi dans un budget annex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ABB-D517-421A-9DED-BCC39F3108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ésenter deux BA : 1 GRETA &amp; 1 BA « production » type cuisine centra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AA6-DA5D-4B4A-9A61-DD9A5EF735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rsque l’on parle de formation continue, formation par l’apprentissage il s’agit de la gestion des centres et non pas de la réalisation d’action d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A29-DD5C-43DA-8940-320290D693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f. modèle planch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C14-8CBC-40CD-A13E-6EC63FAE8A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F = IAF : CAF de -100 = IAF de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155-F16B-4DD0-A5ED-2C26764165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ésentation d’un EMCC rempli – évoquer aussi l’EP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0B9-4F4D-43CC-B3A5-2A7DE5C201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agraphe 1234 de l’instruction – l’absence de budget exécutoire au 1</a:t>
            </a:r>
            <a:r>
              <a:rPr b="0" lang="fr-FR" sz="12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janvier. Prévu par les articles L421-13 et R421-61 du 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ouverture des crédits s’analyse service par service pour la totalité des crédits ouv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tte procédure nécessitera pour l’année 2013 que les crédits 2012 aient été préalablement répartis entre les services de la nouvelle structure budgétaire (procédure qui sera vue lors de la formation à l’out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autorités peuvent autoriser, pour la détermination de ce budget provisoire, la prise en compte des DB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9E6D-A8C5-4D87-8D01-0C626A7BDD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3A3-AE1C-4A89-8844-7EE1E6B518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74C8-0EC9-4108-B9A5-7E46485F7F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tte vignette est à mettre en relation avec l’état réel de la comptabilité patrimoniale et notamment auxiliaire (suivi détaillé de chaque bien, ancienneté des biens et pertinence quant à leur existence réelle ou supposée… Cela suppose que le suivi individualisé des biens a été au minima assuré et non géré hors comptabilité auxili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65A-FB8C-42A6-908F-0395BC33F7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4A2-E612-4ECF-8C8A-1F4529935F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9F8-729C-4944-B980-FF5B8B602C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4B5B-AAC3-41EB-B381-31C7CE570D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ode d’activité a été complété à l’initiative de l’EPLE pour différencier des travaux différents faisant référence à une même sub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AD7-0848-49EA-9DD3-4B26551C15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ans cette structure budgétaire c’est la filière  (hôtelière) qui a été privilégiée comme élément d’analyse de coût. Il est possible d’utiliser le domaine en recet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589A-CE59-4248-993E-12A7DB9D37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élément d’analyse privilégié dans ce cas c’est le voyage. S’il existe plusieurs voyages on utilisera le même domaine et des activités propres à chacun des voyages. On pourra contrôler la part des différents financeurs par voyage  (activité + PCG) ou globalement (PCG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9D1-D7EA-44A6-AF1B-0ABDA5D9FD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B9B-C4AF-4E59-B7D1-20241DE524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Conseil :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ivilégier cette approche car elle permet d'apprécier la part de chaque financeur à l'activité pédagogique. La problématique de la clef de répartition n’est pas à négliger : celle utilisée par le CTR pourra être prise comme base de trav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845-F52B-496D-9756-8CD7D7B697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904-B998-4D5C-9696-DABF3901BB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C18-A56E-4DF6-9C8C-A1FAB525F6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Espace réservé du pied de page 4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hef d’établissement doit informer le CA des virements internes. Ils font l’objet d’un suivi budgétaire spécif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DD40-DABF-436B-AA57-3353320319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mortissements et stocks développés plus l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0CB7-7A53-4CD3-9D51-706C3C729C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36C0-05C2-4E03-9E9F-B693FC3615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paraison à mener avec la situation antérieure. Mettre en lien avec le module « provisions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E80-59AF-47B8-8739-1D31CB4C6C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el : immobilisation sur fonds propres - neutralisé : financement sur dotation ou sub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10A-455F-49A5-B2DA-A39E5B5DD9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formes et conditions du suivi extrabudgétaire peuvent être définies par la collectivité ou le baill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089-3DFE-441B-B26C-923A62E5A6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2D41-6B9F-4DAB-A729-E3BA3A5B9A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constante n’est valable que dans le cadre d’un inventaire intermittent et non continu. La vignette a comme postulat que la première méthode est la plus utilisé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524-1F1E-455A-BBCC-4BBA93FF1E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complément des exercices détaillés – les en-cours ne sont pas développés – la section investissement n’est plus concerné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DC8-901C-48AF-BB41-189EF738A3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gestionnaire saisie une DBM qui ouvre des crédits directement en classe 6 ou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C69-FAD5-4EB6-B9B0-4D5719183C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ans le cadre de la formation, distribuer des exercices concrets avec les planches en découlant (cas d’un collège, d’un LP avec productio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FA40-D3F6-4F70-97D2-C38B58D983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17F4-1D6C-432D-8949-B093798755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gestionnaire saisie une DBM qui ouvre des crédits directement en classe 6 ou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42B4-7CE7-43DB-A66D-DF2E831ADC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5EC-352F-4DF8-A72A-FD2C757D85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formateur doit insister sur la possibilité qui est enfin offerte au comptable : cette réimputation est a l’INITIATIVE du comp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BC EPLE - plan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AC20-8C51-4170-BD42-D677EF56CD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tableau met en évidence les écarts. L’ordonnateur explique et rend compte au 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évolution sur les 5 dernières années sera automatisée mais seulement à partir de l’année 1 de RC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8467-D690-4D18-A2A7-B4A6A54700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Espace réservé du pied de page 3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Espace réservé du numéro de diapositive 4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DC6-A8AB-4F1B-BA6F-DE2235D97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0AF6-FB30-465F-ABE4-7F7722442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94AA-E637-4B1F-9B81-AFC5A083F4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15B2-9CCA-4C7F-A0E3-E3940E2E4B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4CFB-DB05-40BD-8080-9493863DB2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0B97-71E8-4665-AE05-8B612B6BDE0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D870-5701-4ADD-A42D-7016B55028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DBC7-0229-47E4-9CBF-2A1B2700B9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1F0D-1E75-4DD6-AB47-F1977F9376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21E1-1805-4B92-82F9-E2BFC0D1C5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4F45-60AE-4814-870D-A16AA40925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F2E7-7211-4277-A708-592EE86264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2B0BC-B0E9-4838-9693-E3948015D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3EBB-3598-48D5-BF99-9313CCC85D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2E39B-0B1F-47C1-AB14-665BDA73E7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E7478-1489-4A14-9979-CCE7F60937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1C1C3-8CD5-4F88-969F-04C49DC9AE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7F471-D110-4E81-AB23-4F72C7A3E0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5A7E8-844B-4A6E-8C6D-A042F0DC59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B4D19-A169-4D6E-B1CE-24F2605DCFF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9A4CC-C4D7-496B-A06A-78E56490A3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BDCFB-EAFC-474E-A6B7-FC2534436DC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52369-8517-420C-B3BE-B33814A2462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EA887-0956-4368-B96D-01E6D2BBE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F52E-70D7-4A16-BBBC-15BD468390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BD7D6-F811-4FD0-B2AF-9134299D2A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072E6-4CE6-4215-9478-3DA483FB88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BA8CF-73C7-4C35-BFD8-1FAB854857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13964-13D2-43CB-A3CF-5E1E90B3DB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AEB142-4731-4E93-8302-914A2145C1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D0EDE-6EE9-4072-A60A-66E7E67274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18FA40-2C07-43D8-81E7-F823C5ECBF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71D2BC-0BCD-4228-B060-ED9A9E29C9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F55AB-1B03-4DE5-9FD1-59CA073157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EABEC-210F-414F-88D5-7026E28A7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B59-8832-4D65-93BC-1DDACCDA23C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827E3-5494-4549-9365-2CFD4B38D3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9127C1-713C-48DE-A69A-FD57A0957C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C3468-0535-4ABB-9807-ACBBE5D613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A6E7-C3E4-43CD-905B-624D3454B3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2625-5F42-46BB-A125-7237C089DB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0DFB-12B8-428B-8F2E-02EDD59AB2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62BD1-ADEA-4ED7-97FC-391C5FA400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F582-3A23-4661-9541-A7CE428A38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8012D-6BE0-40B4-A9CB-6197FA0CBD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337E-4423-4177-88DE-BCAFF5793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3DF-72A4-4E5D-A6E6-BBC4C26FC4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DC96-27A5-4D6D-9CD7-696A772DD4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FCB34-42CD-4F28-873F-1780437F1D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F741-94ED-43E5-B028-00CC0D4C0D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47DF-254F-4651-9529-596B19F34D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28E5-A889-43CE-A8BC-04906FCD66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AD426-A1D5-4BBD-B500-A9C6028D28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0A9B6-6F3D-4F4C-9DBB-32215702010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908FC-DE05-4F4D-8725-472F3EED10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BFE3E-FFEB-40EE-BA97-563064001E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3BED0-C84E-4D77-A97B-DF27EB1D6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057-2497-48D6-9BA1-CE7653322F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9834A-44A4-48C6-B53D-D7EEFEE2C2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0684B-9D16-42B6-82A1-D33A4BA7644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C272B-B107-4B85-8545-E097203BB4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1B0263-6442-4D08-8DD8-A966A0E6B35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9F72F-050F-4941-BC8D-23F29A67BF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F9D44A-FEAE-4CE9-AC17-631C5D8514A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AEB45-8918-43A4-AE14-3E99146B46F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76E8F-CB51-420D-B26D-F267C5428F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4069F-0D47-42F3-85F2-AB666ECAF9B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8C2C9-3F75-4495-ABB6-084BB309AD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62B-664A-4C39-924A-BD68D81D744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49DB8-F142-4138-B257-19D7F557318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FB1A8-19E1-467A-9589-FF06A8C9A57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87CD6-C03C-4336-A83C-B488447558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55B72-AF8F-44A2-A2DD-67A61B6A91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A79AD-8AD1-4974-9301-8D1272C9E76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2257C-9C59-4CDF-BCE1-072FD22CD9A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2D3ED-173B-49B4-A807-9A8DE74059D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D948B-6DCC-4081-BDF2-4B9E3EAEBFB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4AD94-A3D4-4C5D-9C9D-4916297CAD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21911-ED18-40FF-AEDE-23D6BDBCA4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B58-778C-4197-8410-6EE121B6FF9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714F-738A-43F4-B2FF-9FDE33F8623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418D4-9AC3-4042-BE23-6900C8F8FE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E3412-BC1B-461C-9D6D-51D06155DE3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14447-1291-4659-AA0A-B910FF4F7F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3C9F-C303-45B1-9071-4BF0ED52AFE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4EF5B-8C45-4872-AF40-E3704C3B63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0BE9-220D-47DB-807B-8C9932CA94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BF1F6-0739-4A66-BBAC-522CD46A880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FB94-FD4A-40BA-B35A-3AA2751EFF9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16116-F6E9-4F7B-8457-31331A4CB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921-B366-4950-A798-B48C41D4D8A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93CF-1843-4A5D-8F4A-43F8F8C4273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A203C7-A6DC-44E7-814C-9004754267F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F0DE15-268E-4402-AB82-308BD9B38FB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3D0215-4B9C-49EA-9D9C-9C8F5E0D9C2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6B0060-FF61-437B-BFBE-88FF13A9B9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FC605-A14D-42FD-BC70-09BCE01B50C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D0DF0F-3576-4E29-AE28-4B3C0A8699F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F775EC-5C21-4895-8703-747A2200492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417201-E7ED-4892-BFB0-228EC60D74F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086673-140B-4AD8-A179-3244A9018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157-A58D-4349-9884-A6AB538589D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FC5B69-88F3-4162-9F09-67843236C73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E8E9CA-DA00-4410-9B06-7301E0B568E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FC457B-C5BD-4004-9463-BAA49C54F7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D1307-2B08-40BE-BC1E-1B77E303D4A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41526-5CA0-4613-B129-37522248A57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3AC48-43C1-4EC6-B111-F0F12D128CF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DC74B-BE88-4B45-BA2D-BC313F34BF3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FE78E-04B1-48AC-99AB-2B0BBE7094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69103-46C5-4337-8E33-3E232A50037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90DB2-1189-4F92-980F-6E6D4ED32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0A0D-1CE3-40BD-8D27-D84103FBA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6D7-60BC-41BD-BDAE-9262A20370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CCD55-2EEA-43B2-A999-B51428B0EC0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C3767-CF4D-4A35-8779-6852C420844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47671-3B3D-4CE8-8631-9EED1BF0C8A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CA4BF-49A2-4D7E-839E-37B63C41301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E8A94-2ECB-48A4-9392-809C7950A0E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46BB-FB4A-4227-B611-14821D641C3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DC2D7-020E-4589-94B2-1D69BAAEB4E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DE6D0-BDC0-412B-87C6-392144BDFB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F3D68-43E7-432A-BD42-CEAF7F8012A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3DBD3-0848-4422-96FA-53CB630BF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6B7-7FD4-4BB4-A18E-032C08BDBDB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5620F-A827-435F-8A46-CBD046E0A6D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4A177-C767-4E13-81AB-7569E81FFFC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4444D-AE4F-4D30-888D-136D4FAE6B1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0C80B-6B49-4751-98A4-69D7C78C354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8B204-7FE1-44EB-BB1C-39140999E08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D75A4-A095-4A93-8FFE-0436A4C5987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01810-6400-4138-9BD1-9E2D1F026CC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89D427-FB46-4354-A8C7-01FE61250EC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0EFDF4-47B8-4041-90C3-6FA1E1CEA2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14D131-C3A9-4152-B527-6563CA295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99A-4C78-4F42-ACAE-07EC1B08FE8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CD82A-CB55-4F14-93EC-F5D3EDDC820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A8725-C73F-40E7-91B4-AA30145B37E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ACB2DE-8796-43F5-A99F-ECEF4E18154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A2D8F-C632-4963-97E9-F2A3FBB4D9E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C6142-4826-4BD0-8B57-0C10B67B91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9ABA3E-2AB9-443F-952A-585A1239577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837369-6CB7-409D-B702-33574019F58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35D269-AEDD-4AE1-9C6C-08FE947994A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7987F-25EE-4C58-8399-B11F58B8996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F47649-6521-40F3-897C-BF9832DBD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D0F-2737-433F-BC83-10AE978B236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32C1E6-B2B3-47C5-B630-4D8E2006585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2005D4-376E-4D84-82C8-EF79097CCA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AD6617-C9F6-4FEE-879C-D54CF498E43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A48444-870E-451D-B232-FD47AE74D23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DC2EF0-4DDD-4A52-A8CD-872E0B4CE2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CB68F0-805F-4AF8-8AD6-7D79A91CAB4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AC18E5-00D9-4CFF-94D6-D8B48F89C86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6117C8-3A8E-4FC7-80EE-9DE0B70DFD5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B2A985-300D-499F-B0CA-C91D7F05CAF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C9EC1C-AF36-42B6-B0EB-879182EF75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883-0210-480B-B952-B26F29AF7A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8E72ED-F2C0-4337-BE6B-D5DC4A61B2B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7508E-4CB5-4D9D-B8AB-30AA258DE8D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E46E0-00BD-4E15-A238-A2ADB000FE8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1D72F-E57D-4012-A773-34EE34C50C2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F3AD6-19C1-4326-B9FA-E0615787E53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4DED5-7760-4756-B365-A89B34723C9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26158-9499-4AA4-A3A7-A2E01CEA5BB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4D1CD-EEAC-4C15-BF6E-5CE828F564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EA189-D4CA-4950-A4F1-33F79D30363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80E93-3125-4622-88BF-39578D9AF0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1AE3-A953-4850-88FE-A5452885A85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C9D08-D04C-4B93-A103-9556C494BEF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64A2A-CB4E-431F-93DE-CBEE9C34BBA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47021-81A8-4E7A-BDB5-0363EF8E0A3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1F2D5A-29AE-4F2E-B42A-B3EF85D7B66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0D0E16-7D8D-4343-90EF-D148B1A3AEC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1E3624-4D26-468D-A4A0-D77F1A191E8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97ADA8-A1EC-43B9-BB35-7A19FAEA564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F77D46-CBE9-4DD3-BD00-5AC11A6DA37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5229D3-293B-41DA-8280-939AEFD17E4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1DF74F-81D8-41BB-90BB-24EC5E2F0E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FDF1-7719-46A5-892E-C4070F58368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440DF4-1050-4087-973F-DE8CC297728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3CCBD3-AC77-4C67-BDB3-11FCDC21892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642234-4800-4726-907A-C0C3521F7E0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B8B15D-03D5-46E6-B943-9496120B8EC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02B5F4-F383-4570-AF72-78DB8DB1BAE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C0F8C-7D53-42C2-AA84-E7F49F5DE4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80545-2D12-474D-B389-0ABA50AB5A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7A4A2-BA55-4F55-A9DE-DF8D05EED2A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069DD-3F69-493E-AA9E-52A7FA5DAB4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B6737-55B4-4B99-ADE2-5920B4D797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136C-BECF-4E80-9049-13B81C62B76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69ED8-5D9D-40B5-8799-17E3D9FE415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FAE4F-4B94-4E15-AAC3-F98FB4DAFF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EAD3D-C361-429F-968A-7D78D0E4E32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305D1-CE90-46C5-A34F-8258E16DB3C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85386-6A24-4528-9B76-AF43946567D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D1ABC-B622-4660-95B9-542FC2D4E02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30E82-2257-4598-B280-FD483C5AB68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992BA-F65A-4F4B-92C0-0CD5D9F0271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CAC17-51AD-4B46-A5E6-6FC92346B1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D7EDB-9DAE-475A-9916-CDEFED3948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622-EE45-414A-A49B-80E66071653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89D67-0125-4660-9A9A-66C85D29345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EC1BB-5045-44BD-8039-1512E66E2CF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E625A-E38C-4C00-9068-77E2C020616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B8865-4C4A-45B9-8587-30D7CF9C650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C9BB7-A49A-40F3-842D-2E0FBC84303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5E687-2CBC-455B-B25A-87561B791D7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E5A2D-B623-4447-9F96-A1D7F8B7503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28447-28D9-444F-98CB-B82672F7C1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E6885-0E70-4245-BA1B-F8C628EF946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BE525F-C290-45A1-9E5F-5CF24A4A14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6FC-8721-48C8-BE90-A593B7DB9B8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607877-BC9A-41F6-8795-2A8F5B9C32A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8F8A31-24B8-40D1-AF30-8253EAC52D7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8C9607-0935-4197-897A-7EE0AB1504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45E420-D1B8-4F3F-89C3-1170ECBFB73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F0D867-9EAA-45CF-A0F4-484A6C992E8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1C48EA-F2D3-4B68-AF1F-ED8D3F375EB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AFC907-8089-4F2D-AFDD-5FC5F15045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4D7C20-73D1-4D3A-9C73-61EC9C77FEB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293994-6ED6-4AF7-BA22-20FE7AF2F77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FC56A4-050B-49C5-910E-29788F389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4F2F-3079-4CDF-8D42-AD2B560391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6B21-07E3-4388-9A9F-827FA0A4B5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7C958B-2BA9-488A-9930-D71A7078B8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A1B9-64F7-4715-BF5C-1B8A8A2F10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FC33-442C-4EDF-A381-A889D39C4A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1568-DE55-4246-841B-ECD7527EE2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EB12-295E-45EF-97A5-7A30DB861E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0130-AD36-4584-8232-87BA59D1CE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A1B-83F1-4D54-BBE9-5AA42B0FED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A3C30-B928-416C-9A85-CA7D861532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ED596-6DDB-48DD-9E7C-B279AE08CD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289EA-5670-479C-98C6-6AC4948B6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6E10-65FC-4E12-9463-C4252FFB5A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A313E-685F-4931-9EA1-923126FEC4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37B33-3779-481A-851E-A6E0C76C73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38830-E3A2-48F8-BDB7-A150C56E12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68826-3466-4F9F-9FE3-B5457A44B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6AAA8-46D0-47B2-BCE0-5F337AC4C4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DDFDF-9631-4B45-AF26-14A2AE0CB8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93046-B2EA-438A-9AE0-BE57A637FB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43FF0-CE85-4F17-AA09-13560573FB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842B7-CFF8-4A47-922C-5EE2BF645D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0C9710-A7C6-4FF2-A577-0C9E83DBF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18CC-DE93-4826-BD71-FC04333246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93B75-17BD-4675-B2BF-27133E2739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E202C-C708-4A5B-BA11-4990A7A443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743BE-8A65-48AA-8E55-C4EB0F2377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37817-D575-4AA6-B892-36C9D897FC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F69A8-6926-40F2-8FE7-D6B9436817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DA720-BCBE-4A7B-8065-821C529E82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20949-CC30-4916-895F-FCC7190E5A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9131F-A4DB-46D8-A15D-C47832C51D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32F9D-D2F8-4E7A-AC39-2B2EF4BC36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E561C-6B15-4C3D-9F86-82B40900B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EC1E-6FB4-4F44-9938-1107AC6C5E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F9298-EC60-44A2-8024-1EF8863BE0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1FCE-F64D-4774-B7B4-42B8C1C542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E00B-10F6-4CE7-8558-A8F046F9F3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6BFE-641F-405F-B852-F6E7E0021B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AF77-6318-4172-BACE-C95F6F436F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1243-96F3-4F0D-9BDC-F64C4DB8BB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79E1-8D69-4DE1-BD89-3C9956EAE5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BFBD-E640-470C-A2E3-250E084217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E3D0-27DE-4854-A9CE-A855174A0B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B41F-0E1E-49DA-8308-9F46CCDA3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A261-C581-47C5-A14F-D3D3996695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FE1C-8E88-4F40-8712-27D9CAFEA44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A762-8C24-4890-A525-72BE3ABD81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2099-4AC2-4241-B245-9EC4FFA7B1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3D1A3-B154-4186-AA96-885C5C8C6D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6C382-3961-427F-AD6E-966E0F4EF4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3CF01-B269-45E1-82DA-DC54D39E4E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05B07-E763-4513-877A-0AF4A2DC4F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6850B-C9AA-451A-9125-FD8151D977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72CF9-B4AB-4D20-A38C-8EA06A24BB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78A7E-E8A7-4B57-8FC7-1A82677CD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CE8F-91BA-4AE9-AD92-34FBEA9F19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ED481-41E0-44DC-AE2B-BA38FEB0AA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FA9FF-E267-4656-BE31-D9BBC8399F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C2CC3-02C9-48A2-93C2-82B600D406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DAED6-C1A8-412B-871C-27E33BBA9C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CDA94-7637-429A-945F-6ADE47ADAE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8542B-E417-4E16-B0F4-D00588EC5E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86269-1BC9-434F-BBDA-952D6A614C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9E956-0D29-4754-81A5-1A058F4728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A2CA5-AFA0-4F93-98D9-46E6DE52EA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3CEA1-5D19-4AAD-B68B-9F3EE8A7F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A9DC-BD86-4673-BC3A-921F112DF2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6676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A67B9-AA2B-4C7B-98DE-A03A980464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2F560-6E5D-4F73-8216-B2A2F8E038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0C71C-8D0C-417E-B2FA-0B2777D55C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B6BC0-234F-49A9-9791-E03C1144E6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144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94DD4-464B-48B7-BA6F-264573E0F67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1314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DD5C6-FA9D-4CB2-9FF0-16273AB490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144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968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4792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7FD91-8398-4F0C-8E62-EE4141DB0F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BA21-D218-4531-819D-0747651725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896A-89D1-4A74-845F-EA377E69AC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B9BC-D69E-4D12-B3F4-5676EA147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03640" y="6021360"/>
            <a:ext cx="1979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CB8-66E9-4A68-A982-EC4CE5FEAE72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9640" y="6638760"/>
            <a:ext cx="3168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8A3-810B-4470-9A2E-B59CEA832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C45-47A2-4894-9A3E-0189FB371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796-1718-473D-B674-6611BE209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5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6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0610-DF4D-4A97-A4A1-8A5411507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7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8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6FD-C177-46A9-8487-DACA762E0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9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30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553F-1B39-4A4A-B9AD-02202E8DD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31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32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D42-08C3-474A-9527-3B10871F6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ftr" idx="33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sldNum" idx="34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E0E-9883-43AF-8580-B2634033F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35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6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1FA2-FDF0-48CB-8B06-F6127AFE0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ftr" idx="37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sldNum" idx="38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529-0A31-45DB-AD64-51CC6C4AB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7308360" y="6453360"/>
            <a:ext cx="17002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51B-CA46-4787-8F95-33D30B81BDF8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34764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EA8-D42A-419E-AF02-F3C0BB86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1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2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70A-E668-439A-9928-1764C4DED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ftr" idx="43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sldNum" idx="44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F7B-F22D-4486-8E24-CFEECAD81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sldNum" idx="45"/>
          </p:nvPr>
        </p:nvSpPr>
        <p:spPr>
          <a:xfrm>
            <a:off x="6803640" y="6021360"/>
            <a:ext cx="1979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99B-9A2A-4CFF-9CB0-6E305E723BCF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6"/>
          </p:nvPr>
        </p:nvSpPr>
        <p:spPr>
          <a:xfrm>
            <a:off x="3779640" y="6638760"/>
            <a:ext cx="3168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ftr" idx="47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sldNum" idx="48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2052-F732-4AFC-A267-23F2CEF00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9"/>
          </p:nvPr>
        </p:nvSpPr>
        <p:spPr>
          <a:xfrm>
            <a:off x="1403280" y="6597360"/>
            <a:ext cx="289584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60606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606060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50"/>
          </p:nvPr>
        </p:nvSpPr>
        <p:spPr>
          <a:xfrm>
            <a:off x="7956360" y="6381720"/>
            <a:ext cx="981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0D72-10D8-4ACA-9505-6EEACAD6D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8DC-A81E-4C27-8A36-D3FCBB094D18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648D-D04A-4DEA-A9DB-878A4375A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85B-5447-45BB-8455-E79635A98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CA44-0955-470C-A97B-35BF92912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1175-D079-43FF-BF76-1C2181491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3827-EA55-4716-8271-F73D3F1E4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1042560" y="6597360"/>
            <a:ext cx="35370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Times New Roman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781164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C25A-D10A-4850-B588-11D163C24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Espace réservé du pied de page 3"/>
          <p:cNvSpPr/>
          <p:nvPr/>
        </p:nvSpPr>
        <p:spPr>
          <a:xfrm>
            <a:off x="108000" y="659772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tre 1"/>
          <p:cNvSpPr/>
          <p:nvPr/>
        </p:nvSpPr>
        <p:spPr>
          <a:xfrm>
            <a:off x="5292720" y="2131920"/>
            <a:ext cx="374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FORME DU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R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DGETAIRE ET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MP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ZoneTexte 1"/>
          <p:cNvSpPr/>
          <p:nvPr/>
        </p:nvSpPr>
        <p:spPr>
          <a:xfrm>
            <a:off x="5395320" y="6597720"/>
            <a:ext cx="30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06060"/>
                </a:solidFill>
                <a:latin typeface="Arial"/>
              </a:rPr>
              <a:t>CB1.2-1 les principales innovations budgétaires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971280" y="141300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0a0"/>
                </a:solidFill>
                <a:latin typeface="Arial"/>
              </a:rPr>
              <a:t>Pour l’E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e autonomie réaffirmée mais avec un contrôle a posteriori des 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0a0"/>
                </a:solidFill>
                <a:latin typeface="Arial"/>
              </a:rPr>
              <a:t>Pour le Chef d’établissement ordonnate</a:t>
            </a:r>
            <a:r>
              <a:rPr b="0" lang="fr-FR" sz="1800" spc="-1" strike="noStrike">
                <a:solidFill>
                  <a:srgbClr val="7030a0"/>
                </a:solidFill>
                <a:latin typeface="Arial"/>
              </a:rPr>
              <a:t>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e meilleure maitrise de l’utilisation des crédits dont dispose l’E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0a0"/>
                </a:solidFill>
                <a:latin typeface="Arial"/>
              </a:rPr>
              <a:t>Pour le gestionnaire 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 rôle renforcé dans le domaine de la gestion financière de l’E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0a0"/>
                </a:solidFill>
                <a:latin typeface="Arial"/>
              </a:rPr>
              <a:t>Pour l’agent 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62673"/>
                </a:solidFill>
                <a:latin typeface="Arial"/>
              </a:rPr>
              <a:t>Un compte financier intégrant des indicateurs financiers, devenant ainsi un véritable outil d ’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0a0"/>
                </a:solidFill>
                <a:latin typeface="Arial"/>
              </a:rPr>
              <a:t>Pour le conseil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22268"/>
                </a:solidFill>
                <a:latin typeface="Arial"/>
              </a:rPr>
              <a:t>Un meilleur pilotage au service de l’E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Arial"/>
              </a:rPr>
              <a:t>La RCBC, en résu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1896840" y="1268280"/>
            <a:ext cx="721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e section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ervices génér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ervices spéc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e section des opérations e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opérations d’inves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budget : les sections</a:t>
            </a:r>
            <a:r>
              <a:rPr b="0" lang="fr-FR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 txBox="1"/>
          <p:nvPr/>
        </p:nvSpPr>
        <p:spPr>
          <a:xfrm>
            <a:off x="971280" y="141300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ise en compte de la destination de la dé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ise en compte de l’origine des financements par ba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ermettre de prendre en compte les spécificités de certains EPLE et les choix de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onner au conseil d’administration les outils pour établir une politique d’établ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principaux objectifs budgé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896840" y="1268280"/>
            <a:ext cx="721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e section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ervices génér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ervices spéc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e section des opérations e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opérations d’inves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budget : les sections</a:t>
            </a:r>
            <a:r>
              <a:rPr b="0" lang="fr-FR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1332000" y="119700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Trois services généraux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ctivités Pédagogiques (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dministration &amp; logistique (A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Vie de l’élève (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Des services spéc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ertains prédéf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ertains d’opportun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’autres libres de création selon les spécific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042560" y="419040"/>
            <a:ext cx="81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budget : la section de fonctionn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1042560" y="1484280"/>
            <a:ext cx="79930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isparition des chapitres budgétaires alphanumériques (A1,A2, B, C, D, J1, J2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réation de trois services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xclusifs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Dépenses pédagogiques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 :  AP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activités pédagogiques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Fonctionnement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 :  ALO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administration &amp; logistiqu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Vie de l’élèv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 : VE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vie de l’élè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Les services générau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1217160" y="1483920"/>
            <a:ext cx="7891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penses pédagogiques :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groupement de toutes les dépenses quel que soit le financement ou la spécificité pédag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hapitres d’origi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 général      : A1 &amp;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s spéciaux   : J1, J2, J3, J5, J6,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3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, R4, R8 (formation continue, par alternance, rémunérations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Demain un service génér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ctivités pédagogiques (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042920" y="419040"/>
            <a:ext cx="7848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groupement des dépenses par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114624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penses de fonctionnement : 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groupement de toutes les dépenses quel que soit le financement ou la spécificité technique liée à l’EPLE (EPLE autonome ou au sein d’une cité scolaire ou support d’une cité scola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hapitres d’origi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 général     : B, C, D &amp; G (cité scola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s spéciaux  : contrats aidés (hors servic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utualisateur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Demain un service génér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dministration &amp; logistique (A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Espace réservé du pied de page 7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62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Regroupement des dépenses par destin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 txBox="1"/>
          <p:nvPr/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Vie de l’élève :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groupement de toutes les dépenses quel que soit le financement ou la spécificité de l’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hapitres d’origi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 général     : F (fonds sociaux de l’Etat et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éventuellement des collectivités loc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s spéciaux  : N1, N2 et J3 pour les actions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levant de modules spécifiques (Ex. : C.E.S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Demain un service génér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Vie de l’élève (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Regroupement des dépenses par destin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2080800" y="1233360"/>
            <a:ext cx="688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Un service spécial prédéfin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bourses nat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Un service spécial d’opportun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restauration et l’hébe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es services spéciaux selon les besoi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ervices mutua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42560" y="490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budget : les services spéci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Espace réservé du pied de page 3"/>
          <p:cNvSpPr/>
          <p:nvPr/>
        </p:nvSpPr>
        <p:spPr>
          <a:xfrm>
            <a:off x="108000" y="65865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itre 1"/>
          <p:cNvSpPr/>
          <p:nvPr/>
        </p:nvSpPr>
        <p:spPr>
          <a:xfrm>
            <a:off x="5594400" y="1197000"/>
            <a:ext cx="3530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A RCBC : sommai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Espace réservé du contenu 2"/>
          <p:cNvSpPr/>
          <p:nvPr/>
        </p:nvSpPr>
        <p:spPr>
          <a:xfrm>
            <a:off x="5251320" y="1951200"/>
            <a:ext cx="39243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Enjeux et contex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a construction budgétai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services génér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services spéc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domaines et a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a c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budgets 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’équilibre budgé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’engagement jurid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 budget provis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1116000" y="98064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opportunité de les instituer s’analyse tant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en dépens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qu’en rec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dépense s’entend comme détaillée et précise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et non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forfaitaire ou glob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opportunité de les instituer intègre la masse financière conce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ervices mutualisateurs potentiel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Groupement de comm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utualisation des pa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gence 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Espace réservé du pied de page 7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rvices spéciaux mutua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899640" y="836640"/>
            <a:ext cx="789156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sont intégrés dans le résultat global de l’établ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n’ont pas de fonds de roulement 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FDR de l’EPLE = service général et services spéciaux confond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Attention! Service spécial R2  i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individualisation des réserves est possible (et fortement recommandée pour le R2) </a:t>
            </a:r>
            <a:r>
              <a:rPr b="0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86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Le prélèvement s’effectue toutefois sur le fonds de roulemen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86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C’est le conseil d’administration lors de la répartition du résultat qui décide de la mobilisation des réserve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n’ont pas d’inventaire distinct des biens immobilisés, pas d’opérations en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rvices spéciaux : particularismes</a:t>
            </a:r>
            <a:r>
              <a:rPr b="0" lang="fr-FR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 txBox="1"/>
          <p:nvPr/>
        </p:nvSpPr>
        <p:spPr>
          <a:xfrm>
            <a:off x="1402920" y="1125000"/>
            <a:ext cx="74898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s compren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opérations d’investiss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immobilisations corpo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immobilisations incorporelles non financ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immobilisations incorporelles financ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t leur éventuel 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autres opér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sorties d’inv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628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opérations e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1114560" y="1700280"/>
            <a:ext cx="7921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mpte n’est plus saisi lors de la préparation budgé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mpte n’est pas saisi lors de l’approvi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mpte n’est pas saisi lors de l’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mpte n’intervient qu’au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moment de la liqu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dépense &amp; le plan comptable - comp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 txBox="1"/>
          <p:nvPr/>
        </p:nvSpPr>
        <p:spPr>
          <a:xfrm>
            <a:off x="1042560" y="1197000"/>
            <a:ext cx="77770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budget est établi avec deux nouvelles nomenclatu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« Domaines » et « Activité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s sont construites selon les besoins de suivi de 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s comprennent un code et un libel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domaine est obligatoire en dépenses mais facultatif en rec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Pour le domain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 pas de nomenclature imposée en dehors des opérations particuliè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(ex. :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variations de stocks, opérations de fin d’exercice…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nstruction budgé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971280" y="1196640"/>
            <a:ext cx="81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L’utilisation est obligatoire en dé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L’activité est obligatoire en dépenses mais facultative en recet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L’ensemble du code comporte </a:t>
            </a:r>
            <a:r>
              <a:rPr b="0" lang="fr-FR" sz="2200" spc="-1" strike="noStrike" u="sng">
                <a:solidFill>
                  <a:srgbClr val="002060"/>
                </a:solidFill>
                <a:uFillTx/>
                <a:latin typeface="Arial"/>
              </a:rPr>
              <a:t>9 caractères maxi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Le code commence toujours par 0 ou 1 ou 2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selon le destinataire du compte-rendu de la dép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0 = dépenses à l’initiative de l’E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1 = dépenses relatives à l’ét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2 = dépenses relatives à la collectiv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2060"/>
                </a:solidFill>
                <a:latin typeface="Arial"/>
              </a:rPr>
              <a:t>Ex. 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2060"/>
                </a:solidFill>
                <a:latin typeface="Arial"/>
              </a:rPr>
              <a:t>des dépenses liées à la TA commenceront par le code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2060"/>
                </a:solidFill>
                <a:latin typeface="Arial"/>
              </a:rPr>
              <a:t>des dépenses liées aux stages en entreprises, projets d’établissement commenceront par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2060"/>
                </a:solidFill>
                <a:latin typeface="Arial"/>
              </a:rPr>
              <a:t>des dépenses liées aux aides régionales commenceront pa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Il n’est pas possible d’en ouvrir d’autres, commençant par 3, 4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Les codes 1 et 2 sont saisis à la demande exclusive des financeu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Espace réservé du pied de page 7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7160" y="260280"/>
            <a:ext cx="78915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ctivités : c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2" name=""/>
          <p:cNvGraphicFramePr/>
          <p:nvPr/>
        </p:nvGraphicFramePr>
        <p:xfrm>
          <a:off x="611280" y="1413000"/>
          <a:ext cx="8229600" cy="5029200"/>
        </p:xfrm>
        <a:graphic>
          <a:graphicData uri="http://schemas.openxmlformats.org/drawingml/2006/table">
            <a:tbl>
              <a:tblPr/>
              <a:tblGrid>
                <a:gridCol w="666720"/>
                <a:gridCol w="3747960"/>
                <a:gridCol w="3814920"/>
              </a:tblGrid>
              <a:tr h="1554840">
                <a:tc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gridSpan="2"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8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actères réservés à l’EPLE pour les besoins propres à son pilotage (exemple Voyage aux USA familles 0USATERM, pour les dépenses d’un voyage aux USA d’une classe de termin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3200" r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4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aractères réservés à l’Etat pour le report d’information (exemple 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Gill Sans MT"/>
                        </a:rPr>
                        <a:t>13M</a:t>
                      </a: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pour les manuels scolair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c1b6"/>
                    </a:solidFill>
                  </a:tcPr>
                </a:tc>
                <a:tc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4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actères réservés à l’EPLE pour affiner sa gestion en tant que de besoin (exemple : </a:t>
                      </a: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13MS 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Gill Sans MT"/>
                        </a:rPr>
                        <a:t>6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edf"/>
                    </a:solidFill>
                  </a:tcPr>
                </a:tc>
              </a:tr>
              <a:tr h="1920600">
                <a:tc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3200" r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4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aractères réservés aux CT pour le report d’information (A ce jour, aucune nomenclature arrêté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d7a"/>
                    </a:solidFill>
                  </a:tcPr>
                </a:tc>
                <a:tc>
                  <a:txBody>
                    <a:bodyPr lIns="43200" r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4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aractères réservés à l’EPLE pour affiner sa gestion en tant que de beso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edf"/>
                    </a:solidFill>
                  </a:tcPr>
                </a:tc>
              </a:tr>
            </a:tbl>
          </a:graphicData>
        </a:graphic>
      </p:graphicFrame>
      <p:sp>
        <p:nvSpPr>
          <p:cNvPr id="1083" name="Espace réservé du pied de page 3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9ba4"/>
                </a:solidFill>
                <a:latin typeface="Gill Sans MT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construction du code d’activ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Espace réservé du pied de page 5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74920" y="43920"/>
            <a:ext cx="6984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enclature des activités E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1692360" y="549360"/>
          <a:ext cx="6840360" cy="5699160"/>
        </p:xfrm>
        <a:graphic>
          <a:graphicData uri="http://schemas.openxmlformats.org/drawingml/2006/table">
            <a:tbl>
              <a:tblPr/>
              <a:tblGrid>
                <a:gridCol w="3436920"/>
                <a:gridCol w="340344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s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dentifi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- Libell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ctivit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ification de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t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els scolai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its de reprograph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l pour la r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ation de l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ign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ts de correspond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artistique et culturel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C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s internat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oins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catifs particuliers SEG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s re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des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professionnel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P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entis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res d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es p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g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P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istants d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cation (r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n et charg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SCO (r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n et charg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S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le ouverte (vacation et fonctionn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 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 sant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t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 citoyennet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ds de vie lyc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VL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ds social lyc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SL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ds social des cant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SC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res d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es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c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x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 nomenclature prédéfi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1042920" y="1052640"/>
          <a:ext cx="7777080" cy="5029200"/>
        </p:xfrm>
        <a:graphic>
          <a:graphicData uri="http://schemas.openxmlformats.org/drawingml/2006/table">
            <a:tbl>
              <a:tblPr/>
              <a:tblGrid>
                <a:gridCol w="936720"/>
                <a:gridCol w="2879640"/>
                <a:gridCol w="1152720"/>
                <a:gridCol w="280800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a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ell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libell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 de stocks (</a:t>
                      </a: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atières Premières et autres approvisionn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AUGM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 de stocks</a:t>
                      </a: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Matières Premières et autres approvisionn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DIMI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in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C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 en cours et produits fi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AUGM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C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 en cours et produits fi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DIMI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in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AMOR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rtiss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NEUT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alisation amortiss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PROV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sions risques, charg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RPRO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rises sur prov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SINV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tie invent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ANFI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lation fin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S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spécif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PIMO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immobilis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année 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CAP 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 à p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année 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PAR 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its à recevo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année 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CEXP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 exceptionne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érations année 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PEXP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its exceptio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1042560" y="1341000"/>
            <a:ext cx="78915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domaines et activités (codes) sont facult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plan comptable - compte - est obligatoire dès la préparation budgé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recettes s’effectuent pa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mêmes domaines et les mêmes activités peuvent être utilisés en dépenses et en recettes pour faciliter les rapproch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rec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 txBox="1"/>
          <p:nvPr/>
        </p:nvSpPr>
        <p:spPr>
          <a:xfrm>
            <a:off x="899640" y="134136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0a0"/>
                </a:solidFill>
                <a:latin typeface="Arial"/>
              </a:rPr>
              <a:t>Une réforme à 3 dimensions applicable au 1/01/2013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e dimension juridique avec les modifications apportées au code de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e dimension comptable avec la mise en œuvre d’une nouvelle nomenclature comptable, la M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ne dimension informatique avec l’adaptation de GFC jusqu’en 2014 puis refonte en 2015 et 2016 afin d’aboutir à un GF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0a0"/>
                </a:solidFill>
                <a:latin typeface="Arial"/>
              </a:rPr>
              <a:t>Une réforme qui s’inscrit dans le cadre de l’autonomie de l’EPLE et qui contribue à une amélioration du pilotage financ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RCBC : une réforme de grande amp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4" name=""/>
          <p:cNvGraphicFramePr/>
          <p:nvPr/>
        </p:nvGraphicFramePr>
        <p:xfrm>
          <a:off x="1619280" y="1052640"/>
          <a:ext cx="6624720" cy="4481280"/>
        </p:xfrm>
        <a:graphic>
          <a:graphicData uri="http://schemas.openxmlformats.org/drawingml/2006/table">
            <a:tbl>
              <a:tblPr/>
              <a:tblGrid>
                <a:gridCol w="1407960"/>
                <a:gridCol w="1055880"/>
                <a:gridCol w="1012680"/>
                <a:gridCol w="1069920"/>
                <a:gridCol w="1065240"/>
                <a:gridCol w="1013040"/>
              </a:tblGrid>
              <a:tr h="318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ction de fonct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géné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  <a:tc gridSpan="5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 : activités pédagogiques  - 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</a:t>
                      </a: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O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ligatoir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 </a:t>
                      </a:r>
                      <a:r>
                        <a:rPr b="1" i="1" lang="fr-FR" sz="1300" spc="-1" strike="noStrike">
                          <a:solidFill>
                            <a:srgbClr val="222268"/>
                          </a:solidFill>
                          <a:latin typeface="Gill Sans MT"/>
                        </a:rPr>
                        <a:t>(Facultati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1f497d"/>
                          </a:solidFill>
                          <a:latin typeface="Gill Sans MT"/>
                        </a:rPr>
                        <a:t>(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mpte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général : administration et logistique  - A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: vie de l’élève -  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s spéciau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  <a:tc gridSpan="5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spécial : bourses nat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s spécial : restau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</a:t>
                      </a: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O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ligatoir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 </a:t>
                      </a:r>
                      <a:r>
                        <a:rPr b="1" i="1" lang="fr-FR" sz="1300" spc="-1" strike="noStrike">
                          <a:solidFill>
                            <a:srgbClr val="222268"/>
                          </a:solidFill>
                          <a:latin typeface="Gill Sans MT"/>
                        </a:rPr>
                        <a:t>(Facultati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1f497d"/>
                          </a:solidFill>
                          <a:latin typeface="Gill Sans MT"/>
                        </a:rPr>
                        <a:t>(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mpte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</a:tr>
              <a:tr h="311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ction opérations en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row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70c0"/>
                          </a:solidFill>
                          <a:latin typeface="Gill Sans MT"/>
                        </a:rPr>
                        <a:t>Service investiss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</a:t>
                      </a: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O</a:t>
                      </a:r>
                      <a:r>
                        <a:rPr b="0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ligatoir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 </a:t>
                      </a:r>
                      <a:r>
                        <a:rPr b="1" i="1" lang="fr-FR" sz="1300" spc="-1" strike="noStrike">
                          <a:solidFill>
                            <a:srgbClr val="222268"/>
                          </a:solidFill>
                          <a:latin typeface="Gill Sans MT"/>
                        </a:rPr>
                        <a:t>(Facultati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1f497d"/>
                          </a:solidFill>
                          <a:latin typeface="Gill Sans MT"/>
                        </a:rPr>
                        <a:t>(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mptes </a:t>
                      </a:r>
                      <a:br>
                        <a:rPr sz="1300"/>
                      </a:br>
                      <a:r>
                        <a:rPr b="1" lang="fr-FR" sz="13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(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</a:tr>
            </a:tbl>
          </a:graphicData>
        </a:graphic>
      </p:graphicFrame>
      <p:sp>
        <p:nvSpPr>
          <p:cNvPr id="1095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8915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 budge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 txBox="1"/>
          <p:nvPr/>
        </p:nvSpPr>
        <p:spPr>
          <a:xfrm>
            <a:off x="971280" y="836640"/>
            <a:ext cx="79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remplacent les SAC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sont indépendants du budget principal (vote distinct du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omme le budget principal, ils ont une section de fonctionnement et une section des opérations e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ont un seul service général nommé par l’établissement sauf s’il fait partie de la nomenclature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formation continue et/ou par alter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ne peuvent comporter de services spéc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ont leur propre compte fina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s ont un fonds de roulement prop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92000" y="58680"/>
            <a:ext cx="6840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budgets anne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971280" y="1413000"/>
            <a:ext cx="817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ur création est à l’initiative de l’E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ex. : gestion de la formation par l’apprentissage, cuisine central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 EPLE peut avoir plusieurs budgets ann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 sont liés à la possibilité de réaliser des opérations e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collectivité peut les demand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ex. restauration et hébe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budgets anne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3" name=""/>
          <p:cNvGraphicFramePr/>
          <p:nvPr/>
        </p:nvGraphicFramePr>
        <p:xfrm>
          <a:off x="826920" y="1700280"/>
          <a:ext cx="8064720" cy="4152960"/>
        </p:xfrm>
        <a:graphic>
          <a:graphicData uri="http://schemas.openxmlformats.org/drawingml/2006/table">
            <a:tbl>
              <a:tblPr/>
              <a:tblGrid>
                <a:gridCol w="1803600"/>
                <a:gridCol w="1407960"/>
                <a:gridCol w="1239840"/>
                <a:gridCol w="1239840"/>
                <a:gridCol w="1190880"/>
                <a:gridCol w="1182600"/>
              </a:tblGrid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ction de fonct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rvice général : administration et logis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O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ligatoi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 </a:t>
                      </a:r>
                      <a:r>
                        <a:rPr b="1" i="1" lang="fr-FR" sz="1600" spc="-1" strike="noStrike">
                          <a:solidFill>
                            <a:srgbClr val="222268"/>
                          </a:solidFill>
                          <a:latin typeface="Gill Sans MT"/>
                        </a:rPr>
                        <a:t>(Facultati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1f497d"/>
                          </a:solidFill>
                          <a:latin typeface="Gill Sans MT"/>
                        </a:rPr>
                        <a:t>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mpte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(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ction opérations en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rvice investiss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ed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</a:t>
                      </a: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O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ligatoi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efec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Domaines </a:t>
                      </a:r>
                      <a:r>
                        <a:rPr b="1" i="1" lang="fr-FR" sz="1600" spc="-1" strike="noStrike">
                          <a:solidFill>
                            <a:srgbClr val="222268"/>
                          </a:solidFill>
                          <a:latin typeface="Gill Sans MT"/>
                        </a:rPr>
                        <a:t>(Facultati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ctivité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1f497d"/>
                          </a:solidFill>
                          <a:latin typeface="Gill Sans MT"/>
                        </a:rPr>
                        <a:t>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mptes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(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4f7fe"/>
                    </a:solidFill>
                  </a:tcPr>
                </a:tc>
              </a:tr>
            </a:tbl>
          </a:graphicData>
        </a:graphic>
      </p:graphicFrame>
      <p:sp>
        <p:nvSpPr>
          <p:cNvPr id="1104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000000"/>
                </a:solidFill>
                <a:latin typeface="Arial"/>
              </a:rPr>
              <a:t>Les budgets annexes : construc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900000" y="1483920"/>
            <a:ext cx="82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ntre le budget principal et le(s) budget(s) annex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ompte concerné : 185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(remplace les comptes 513 &amp; 4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 est mouvementé aussi bien dans la comptabilité du budget annexe (BA) que dans la comptabilité du budget principal 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16349"/>
                </a:solidFill>
                <a:latin typeface="Arial"/>
              </a:rPr>
              <a:t>ENCA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crédit compte tiers BA</a:t>
            </a:r>
            <a:r>
              <a:rPr b="0" lang="fr-FR" sz="1800" spc="-1" strike="noStrike">
                <a:solidFill>
                  <a:srgbClr val="d16349"/>
                </a:solidFill>
                <a:latin typeface="Wingdings 2"/>
                <a:ea typeface="Wingdings 2"/>
              </a:rPr>
              <a:t></a:t>
            </a: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d16349"/>
                </a:solidFill>
                <a:latin typeface="Arial"/>
              </a:rPr>
              <a:t>débit  185 BA= crédit 185 BP </a:t>
            </a:r>
            <a:r>
              <a:rPr b="0" lang="fr-FR" sz="1800" spc="-1" strike="noStrike">
                <a:solidFill>
                  <a:srgbClr val="d16349"/>
                </a:solidFill>
                <a:latin typeface="Wingdings 2"/>
                <a:ea typeface="Wingdings 2"/>
              </a:rPr>
              <a:t></a:t>
            </a: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 débit classe 5 B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16349"/>
                </a:solidFill>
                <a:latin typeface="Arial"/>
              </a:rPr>
              <a:t>PAI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débit compte tiers BA</a:t>
            </a:r>
            <a:r>
              <a:rPr b="0" lang="fr-FR" sz="1800" spc="-1" strike="noStrike">
                <a:solidFill>
                  <a:srgbClr val="d16349"/>
                </a:solidFill>
                <a:latin typeface="Wingdings 2"/>
                <a:ea typeface="Wingdings 2"/>
              </a:rPr>
              <a:t></a:t>
            </a: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d16349"/>
                </a:solidFill>
                <a:latin typeface="Arial"/>
              </a:rPr>
              <a:t>crédit 185 BA= débit185 BP </a:t>
            </a:r>
            <a:r>
              <a:rPr b="0" lang="fr-FR" sz="1800" spc="-1" strike="noStrike">
                <a:solidFill>
                  <a:srgbClr val="d16349"/>
                </a:solidFill>
                <a:latin typeface="Wingdings 2"/>
                <a:ea typeface="Wingdings 2"/>
              </a:rPr>
              <a:t></a:t>
            </a:r>
            <a:r>
              <a:rPr b="0" lang="fr-FR" sz="1800" spc="-1" strike="noStrike">
                <a:solidFill>
                  <a:srgbClr val="d16349"/>
                </a:solidFill>
                <a:latin typeface="Arial"/>
              </a:rPr>
              <a:t> crédit classe 5 B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81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écritur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dget principal / budget annex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1187280" y="1197000"/>
            <a:ext cx="7818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 s’analyse non par le calcul du résul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(recettes – dépenses de fonctionn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ais par le calcul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capacité d’autofinancement (CA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si solde posi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insuffisance de capacité d’autofinancement (I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si solde nég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CAF corrige le résultat des variations induites par les opérations d’ordre (amortissements, provision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équilibre budgé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Rectangle à coins arrondis 5"/>
          <p:cNvGrpSpPr/>
          <p:nvPr/>
        </p:nvGrpSpPr>
        <p:grpSpPr>
          <a:xfrm>
            <a:off x="2457360" y="5851440"/>
            <a:ext cx="1712880" cy="701640"/>
            <a:chOff x="2457360" y="5851440"/>
            <a:chExt cx="1712880" cy="701640"/>
          </a:xfrm>
        </p:grpSpPr>
        <p:pic>
          <p:nvPicPr>
            <p:cNvPr id="1113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2457360" y="5851440"/>
              <a:ext cx="1712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/>
            <p:nvPr/>
          </p:nvSpPr>
          <p:spPr>
            <a:xfrm>
              <a:off x="2511360" y="590544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222268"/>
                  </a:solidFill>
                  <a:latin typeface="Arial"/>
                </a:rPr>
                <a:t>Fichier ou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1116000" y="1412640"/>
            <a:ext cx="781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Etat Prévisionnel de la Commande Publique est supprimé comme autorisation budgétaire soumise au contrôle du comptable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mais l’outil de gestion demeur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(état prévisionnel des ach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préparation budgétaire intègre un module de suivi des contr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Etat des marchés, contrats et conventions (E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Objet – titulaire – procédure - périodicité – coût annuel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validation du budget, entraine la génération automatique des engagements issus de l’EM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engagement jurid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217160" y="105228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is en œuvre si l’établissement ne dispose pas d’un budget exécutoire au 1</a:t>
            </a:r>
            <a:r>
              <a:rPr b="0" lang="fr-FR" sz="2400" spc="-1" strike="noStrike" baseline="30000">
                <a:solidFill>
                  <a:srgbClr val="002060"/>
                </a:solidFill>
                <a:latin typeface="Arial"/>
              </a:rPr>
              <a:t>er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jan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Ne concerne que la section de fonctionnement (idem 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rédits ouverts inférieurs ou égaux à ceux votés au budget initial précé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autorités de tutelle peuvent accepter la prise en compte des mesures de rentr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Espace réservé du pied de page 5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budget provisoire</a:t>
            </a:r>
            <a:br>
              <a:rPr sz="39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1252080" y="836280"/>
            <a:ext cx="7891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hef d’établissement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Gill Sans MT"/>
              <a:buChar char="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eut transiger après avoir recueilli l’autorisation du conseil d’administration en application de l’article 2044 du code civil qui définit la transaction 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(point 1346 et suiva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eut obtenir une délégation du conseil pour la signature de contrats et conventions dans la limite fixée à l’article 28 du 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nseil d’administration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son quorum est calculé à la majorité des membres du CA en exercice et non plus à la majorité des membres théor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mptab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eut se faire représenter par une personne désig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’agence comp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eut  être inter départe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628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pact sur le code de l’é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Espace réservé du pied de page 1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ZoneTexte 4"/>
          <p:cNvSpPr/>
          <p:nvPr/>
        </p:nvSpPr>
        <p:spPr>
          <a:xfrm>
            <a:off x="4859280" y="2349360"/>
            <a:ext cx="410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53143"/>
                </a:solidFill>
                <a:latin typeface="Arial"/>
              </a:rPr>
              <a:t>CONSEILS PRATIQUES POUR PRÉPARER LE NOUVEAU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899640" y="134136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451"/>
              </a:spcBef>
              <a:buClr>
                <a:srgbClr val="9a00c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a00c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La liberté d’utiliser les ressources et La dépense comme expression de ch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9a00c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9a00c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a00c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La gouvernanc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9a00c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9a00c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a00c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Deux cadres : l’un, budgétaire par dest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      </a:t>
            </a: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l’autre, comptable par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4.   L’exécution budgétaire et les indicateur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      </a:t>
            </a: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a00cd"/>
                </a:solidFill>
                <a:latin typeface="Arial"/>
              </a:rPr>
              <a:t>5.   Le pilotage financier de l’établ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5 Clés pour le pilotage de l’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5208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INVENTAIRE : MÉTHOD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325520" y="1268280"/>
            <a:ext cx="781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’assurer de la présence d’un inv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nalyser la pertinence du support informa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DOS, WINDOWS, date de la dernière mise à jour, qualité de la saisi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’assurer que les fiches comprennent les montants d’acquisition 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les fin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’assurer que les sorties antérieures ont fait l’objet des écritures budgétaires et comptables conformes à la circulaire n°88-0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ettre en place une procédure de contrôles aléatoires de la qualité de l’inv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Espace réservé du pied de page 9"/>
          <p:cNvSpPr/>
          <p:nvPr/>
        </p:nvSpPr>
        <p:spPr>
          <a:xfrm>
            <a:off x="971640" y="662796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448000" y="259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TENUE DE L’INV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150560" y="980640"/>
            <a:ext cx="79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fin de simplifier la gestion de la transition vers les amortissements, il faut avoir un inventaire à jour et pertin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’assurer que la comptabilité patrimoniale est cohérente dans GFC et correspond à la comptabilité auxiliaire.  Par défaut les corrections devront être apportées avant le 31/12/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censer les biens à sortir afin de réduire les difficultés éventuelles liées aux subdivisions du compte 1069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notamment les biens à multi-financement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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sont concernés par ces deux derniers poi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les biens sans usage, disparus ou obsolètes</a:t>
            </a:r>
            <a:r>
              <a:rPr b="0" i="1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Rectangle à coins arrondis 5"/>
          <p:cNvGrpSpPr/>
          <p:nvPr/>
        </p:nvGrpSpPr>
        <p:grpSpPr>
          <a:xfrm>
            <a:off x="3419640" y="6205680"/>
            <a:ext cx="4700520" cy="652320"/>
            <a:chOff x="3419640" y="6205680"/>
            <a:chExt cx="4700520" cy="652320"/>
          </a:xfrm>
        </p:grpSpPr>
        <p:pic>
          <p:nvPicPr>
            <p:cNvPr id="1133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3419640" y="6205680"/>
              <a:ext cx="47005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Text Box 7"/>
            <p:cNvSpPr/>
            <p:nvPr/>
          </p:nvSpPr>
          <p:spPr>
            <a:xfrm>
              <a:off x="3475080" y="6261120"/>
              <a:ext cx="4592520" cy="478800"/>
            </a:xfrm>
            <a:prstGeom prst="rect">
              <a:avLst/>
            </a:prstGeom>
            <a:gradFill rotWithShape="0">
              <a:gsLst>
                <a:gs pos="0">
                  <a:srgbClr val="fbb12d"/>
                </a:gs>
                <a:gs pos="50000">
                  <a:srgbClr val="ffffff"/>
                </a:gs>
                <a:gs pos="100000">
                  <a:srgbClr val="fbb1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Note rectorale </a:t>
              </a:r>
              <a:r>
                <a:rPr b="0" lang="fr-FR" sz="1800" spc="-1" strike="noStrike">
                  <a:solidFill>
                    <a:srgbClr val="333399"/>
                  </a:solidFill>
                  <a:latin typeface="Arial"/>
                </a:rPr>
                <a:t>+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Note ministéri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81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E POLITIQUE BUDGÉTAIRE PRÉA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1252080" y="1125000"/>
            <a:ext cx="789156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partir le budget initial en cours entre les services généraux et spéciaux de la nouvelle structure budgétai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= maîtrise de la nouvelle structure avec un budget con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éfinir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avec le chef d’établissement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des lignes générales de création des domaines et des activités compréhensibles et exploitables par le conseil d’administration  et les é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éfinir une présentation qui permette à tous les destinataires de s’y retrouver (chef de travaux, enseignants,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fam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lles, collectivités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OMMUNICATION BUDGÉ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252080" y="1447920"/>
            <a:ext cx="78915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nformer en amont du premier budg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onseil d’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enseign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chef de travaux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’assurer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absence ou de l’existence de consignes spécifiques des collectivités territoriales et de l’E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bien communiquer sur le nouveau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Espace réservé du pied de page 3"/>
          <p:cNvSpPr/>
          <p:nvPr/>
        </p:nvSpPr>
        <p:spPr>
          <a:xfrm>
            <a:off x="468360" y="6305400"/>
            <a:ext cx="828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Espace réservé du numéro de diapositive 2"/>
          <p:cNvSpPr/>
          <p:nvPr/>
        </p:nvSpPr>
        <p:spPr>
          <a:xfrm>
            <a:off x="781200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C769-593E-4992-81A7-69F14EE09026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UDGET ANNEXES : LES CHOIX FONDAMENTA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252080" y="1213920"/>
            <a:ext cx="789156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70000"/>
              </a:lnSpc>
              <a:spcBef>
                <a:spcPts val="1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Nombre et objectifs fonctionnels de ces dern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 Service Annexe d’Hébergement est-il géré en service spécial ou en budget annex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Y-a-t-il d’autres fonctions financières exigeant un budget annexe en raison d’opérations en capital qui leur sont rattachées (GRETA, CFA, dispositifs mutualisés ou services commun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 évaluer pour préparer ces choi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Charges de gestion et moyens humains de l’EP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cellule comptable, comptabilités générales, comptes financiers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Objectifs d’efficacité d’un tel suiv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(masse financière, taille de l’établissement, nombre d’opération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76840" algn="just">
              <a:lnSpc>
                <a:spcPct val="7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Recommandations de la collectivité territor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NCEPTION  DU 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1150560" y="1052280"/>
            <a:ext cx="7993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Si les nomenclatures des activités permettent un compte rendu aisé du financement notamment pour l’Etat et pour la collectivité de rattach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333399"/>
                </a:solidFill>
                <a:latin typeface="Arial"/>
              </a:rPr>
              <a:t>(si celle-ci opte pour des nomenclatures obligatoi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Il convient également de concevoir un système de rédaction des nomenclatures adapté au pilotage de l’E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eux objectifs principaux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Préciser la destination de la recette et de la dép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</a:rPr>
              <a:t>exemples : voyage scolaire, Taxe Apprentissage, locations…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permettre une analyse budgétaire par thème ou obj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</a:rPr>
              <a:t>(exemples de regroupement par ensemble cohérent : charges liées à la sécurité, la communication, la reprographi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DOMAINES ET ACTIVITÉS À L’INITIATIVE DE L’E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329840" y="1267920"/>
            <a:ext cx="78138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viter la reconstitution par des lettres des comptes du PC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viter l’imputation au service AP ou VE du financement de charges très indirectement liées à la pédagogie ou à la vie de l’élèv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P et VE ne doivent pas être des mini-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reversements entre services sont limités au service spécial vers ou venant du service géné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viter l’émiettement sur de trop nombreux domaines et activités pour ne pas perturber la lecture des crédits ouve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Espace réservé du numéro de diapositive 3"/>
          <p:cNvSpPr/>
          <p:nvPr/>
        </p:nvSpPr>
        <p:spPr>
          <a:xfrm>
            <a:off x="781200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10B9-839F-4F31-BFE8-04AC55EEF6FD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U BUDGET : EXEMPL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988920" y="836280"/>
            <a:ext cx="813600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c8c93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Exemple d’utilisation des domaines et activités en dépenses et en rec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Subvention spécifique de la Collectivité Territoriale de Rattachement pour des travaux délégués au service ALO (code d’activité imposé par la CTR - 2TVX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Le domaine obligatoire en dépenses n’a pas été utilisé en rec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L’utilisation de l’activité en recettes et en dépenses permet de contrôler que le montant de la recette est égal au montant de la dé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Les caractères xxxx ou yyyy peuvent compléter l’activité afin de préciser sa destination (à l’initiative de l’E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6" name=""/>
          <p:cNvGraphicFramePr/>
          <p:nvPr/>
        </p:nvGraphicFramePr>
        <p:xfrm>
          <a:off x="1403280" y="2349360"/>
          <a:ext cx="7658280" cy="1822680"/>
        </p:xfrm>
        <a:graphic>
          <a:graphicData uri="http://schemas.openxmlformats.org/drawingml/2006/table">
            <a:tbl>
              <a:tblPr/>
              <a:tblGrid>
                <a:gridCol w="1530360"/>
                <a:gridCol w="1533600"/>
                <a:gridCol w="1530360"/>
                <a:gridCol w="1531800"/>
                <a:gridCol w="153216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é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Recet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C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M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2TVXD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2TVX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7442 - 7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M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2TVXDyy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Espace réservé du numéro de diapositive 3"/>
          <p:cNvSpPr/>
          <p:nvPr/>
        </p:nvSpPr>
        <p:spPr>
          <a:xfrm>
            <a:off x="781200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227-948A-4679-9FAC-793ABC755986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5208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U BUDGET : EXEMPLE 2-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896760" y="1052280"/>
            <a:ext cx="8244000" cy="5311800"/>
          </a:xfrm>
          <a:prstGeom prst="rect">
            <a:avLst/>
          </a:prstGeom>
          <a:noFill/>
          <a:ln w="9360">
            <a:solidFill>
              <a:srgbClr val="3c8c9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Budget d’un voyage aux USA financé par les familles, la CTR et un 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 domaine obligatoire en dépenses n’a pas été utilisé en recettes. Il permet de rattacher ce voyage à une formation professionnelle (hôtellerie = HOT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’utilisation de l’activité en recettes et en dépenses permet de contrôler que le montant de la recette est égal au montant de la dé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financeurs sont caractérisés par le P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1619280" y="1844640"/>
          <a:ext cx="7369200" cy="2040120"/>
        </p:xfrm>
        <a:graphic>
          <a:graphicData uri="http://schemas.openxmlformats.org/drawingml/2006/table">
            <a:tbl>
              <a:tblPr/>
              <a:tblGrid>
                <a:gridCol w="1473120"/>
                <a:gridCol w="1474920"/>
                <a:gridCol w="1473120"/>
                <a:gridCol w="1474920"/>
                <a:gridCol w="1473120"/>
              </a:tblGrid>
              <a:tr h="407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C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VOY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VOY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VOY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VOY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Espace réservé du numéro de diapositive 3"/>
          <p:cNvSpPr/>
          <p:nvPr/>
        </p:nvSpPr>
        <p:spPr>
          <a:xfrm>
            <a:off x="7812000" y="6453360"/>
            <a:ext cx="1125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ED3-7EAE-4762-B3DD-524EDABDAB0C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5208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U BUDGET : EXEMPLE 2-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900000" y="1214280"/>
            <a:ext cx="8244000" cy="5167440"/>
          </a:xfrm>
          <a:prstGeom prst="rect">
            <a:avLst/>
          </a:prstGeom>
          <a:noFill/>
          <a:ln w="9360">
            <a:solidFill>
              <a:srgbClr val="3c8c9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Budget d’un voyage aux USA financé par les familles, la CTR et un 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 domaine obligatoire en dépenses a aussi été utilisé en recettes. Il permet une synthèse de tous les voy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’utilisation de l’activité en recettes et en dépenses permet de contrôler que le montant de la recette est égal au montant de la dé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Les financeurs sont caractérisés par le P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1619280" y="1700280"/>
          <a:ext cx="7369200" cy="1998720"/>
        </p:xfrm>
        <a:graphic>
          <a:graphicData uri="http://schemas.openxmlformats.org/drawingml/2006/table">
            <a:tbl>
              <a:tblPr/>
              <a:tblGrid>
                <a:gridCol w="1473120"/>
                <a:gridCol w="1474920"/>
                <a:gridCol w="1473120"/>
                <a:gridCol w="1474920"/>
                <a:gridCol w="1473120"/>
              </a:tblGrid>
              <a:tr h="366480">
                <a:tc gridSpan="2">
                  <a:txBody>
                    <a:bodyPr lIns="90000" rIns="900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p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et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ti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C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b3c1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Y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Y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971280" y="141300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l’autonomie de l’EPLE ne peut exister qu’au regard de ses ressources ( les recenser afin de mieux les mobili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Le budget de l’E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établi par objectifs (donc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 destin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en fonction du projet d’établissement (contractualisation avec </a:t>
            </a:r>
            <a:r>
              <a:rPr b="1" lang="fr-FR" sz="1800" spc="-1" strike="noStrike">
                <a:solidFill>
                  <a:srgbClr val="33339a"/>
                </a:solidFill>
                <a:latin typeface="Arial"/>
              </a:rPr>
              <a:t>l’Etat, collectivités loca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présenté a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eil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Le budget de l’EP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retrace ses 3 « fonctions »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 et form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e de l’élè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ministration et logis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1. La liberté d’utiliser les ressources et  La dépense comme expression de choix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9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DOTATION DE FONC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1252080" y="148392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odes de répartition de la dotation de fonctionnement (et des ressources propres dont l’affectation n’est pas déterminée -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exemple : loyers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a dotation globale de fonctionnement peut faire l’objet d’une recette (selon le vote du budget au CA) dans tous les services qu’elle finance (AP-ALO-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ressources propres peuvent également faire l’objet d’une recette dans tous les services qu’elle finance (décision du 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177560" y="1052280"/>
            <a:ext cx="7281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L’instruction modificatrice M9.6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nd obligatoire la comptabilisation des amortissements en comptabilité budgét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La comptabilisation des amortissements permet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’assurer une plus grande sincérité au compte de résultat et au bi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’enregistrer la perte subie annuellement par le patrimoine de l’E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À l’ordonnateur et au conseil d’administration d’être associés aux opérations d’amortiss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Espace réservé du pied de page 4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76000" y="44280"/>
            <a:ext cx="7667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’AMORTISSE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bjectifs de la IC M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8064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L’amortiss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onstate l’amoindrissement de la valeur d’un élément d’actif  dû à son utilis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oncerne les immobilisations corporelles ou incorporelles financiers ou non dont la valeur est supérieure à 800 € HT et destinées à servir de façon durable (plus d’un an) l’activité de l’établis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eut être 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réel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ou 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neutralisé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Réel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 pour les biens acquis sur fonds de rou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Neutralisé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 pour les biens reçus en dotation ou financés grâce à une sub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Espace réservé du pied de page 4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667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’AMORTISSEME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é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Rectangle à coins arrondis 5"/>
          <p:cNvGrpSpPr/>
          <p:nvPr/>
        </p:nvGrpSpPr>
        <p:grpSpPr>
          <a:xfrm>
            <a:off x="4432320" y="6315120"/>
            <a:ext cx="3730680" cy="542880"/>
            <a:chOff x="4432320" y="6315120"/>
            <a:chExt cx="3730680" cy="542880"/>
          </a:xfrm>
        </p:grpSpPr>
        <p:pic>
          <p:nvPicPr>
            <p:cNvPr id="1177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432320" y="6315120"/>
              <a:ext cx="3730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"/>
            <p:cNvSpPr/>
            <p:nvPr/>
          </p:nvSpPr>
          <p:spPr>
            <a:xfrm>
              <a:off x="4479840" y="6367320"/>
              <a:ext cx="36306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222268"/>
                  </a:solidFill>
                  <a:latin typeface="Arial"/>
                </a:rPr>
                <a:t>Fiche tech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MORTISSEMENTS : QUELQUES PRÉCAUTIONS</a:t>
            </a:r>
            <a:r>
              <a:rPr b="0" lang="fr-FR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366560" y="1844640"/>
            <a:ext cx="777708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fin de présenter un budget sincère 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ès le budget initi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révoir une ligne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en dépenses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pour les amortissements réels et neutralisés sur la base de l’actif connu ou prévu au premier janvier 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prévoir une ligne en recettes au titre des amortissements neutralisés de l’actif connu ou prévu au premier janvier 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Espace réservé du pied de page 9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daecb"/>
                </a:solidFill>
                <a:latin typeface="Gill Sans MT"/>
                <a:ea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58560" y="28548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ÉGRATION DE L’AMORTISSEMENT DANS LE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180800" y="1699920"/>
            <a:ext cx="7962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charges d’amortissement non neutralisées devront faire l’objet d’une explication à l’ensemble de la communauté éducative de leurs conséquences sur le résultat et la capacité d’autofinancement de l’E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durées d’amortissement affectées aux biens sont déterminées par le conseil d’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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Prévoir une délibération générique pour l’ensemble des catégories de b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Wingdings 2"/>
                <a:ea typeface="Wingdings 2"/>
              </a:rPr>
              <a:t></a:t>
            </a:r>
            <a:r>
              <a:rPr b="1" i="1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Prévoir le cas échéant une délibération spécifique pour certains bi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755280" y="1052280"/>
            <a:ext cx="793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rovisions sont destinées à couvrir des risques et des charges nettement précisées quant à leur objet, dont la réalisation est incertaine, mais que des évènements survenus ou en cours rendent prob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s ont 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ère provisoi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s so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ablement constituées dans 2 c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nd la charge ou le risque envisagé n’est pas certain, mais probable 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nd la charge ou le risque envisagé est certain mais pas connu dans son montant et doit par conséquent faire l’objet d’une éval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On distingue 3 catégories de provision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es qui relèvent d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arges d’explo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es qui constituent d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arges financiè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es qui appartiennent aux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arges excep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s sont constituées avec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accord du conseil d’administr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font l’objet d’un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cision budgétaire modificative pour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ulter la fiche technique (Fiches d’écri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itre 1"/>
          <p:cNvSpPr/>
          <p:nvPr/>
        </p:nvSpPr>
        <p:spPr>
          <a:xfrm>
            <a:off x="1476360" y="260280"/>
            <a:ext cx="7667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LES PROVI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Définition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orme libre 5"/>
          <p:cNvSpPr/>
          <p:nvPr/>
        </p:nvSpPr>
        <p:spPr>
          <a:xfrm>
            <a:off x="6095880" y="5283360"/>
            <a:ext cx="2278080" cy="1357200"/>
          </a:xfrm>
          <a:custGeom>
            <a:avLst/>
            <a:gdLst/>
            <a:ahLst/>
            <a:rect l="l" t="t" r="r" b="b"/>
            <a:pathLst>
              <a:path w="2278743" h="1357339">
                <a:moveTo>
                  <a:pt x="0" y="0"/>
                </a:moveTo>
                <a:lnTo>
                  <a:pt x="0" y="0"/>
                </a:lnTo>
                <a:cubicBezTo>
                  <a:pt x="96762" y="9676"/>
                  <a:pt x="193792" y="16967"/>
                  <a:pt x="290286" y="29029"/>
                </a:cubicBezTo>
                <a:cubicBezTo>
                  <a:pt x="310080" y="31503"/>
                  <a:pt x="328823" y="39434"/>
                  <a:pt x="348343" y="43543"/>
                </a:cubicBezTo>
                <a:cubicBezTo>
                  <a:pt x="420764" y="58790"/>
                  <a:pt x="494258" y="69136"/>
                  <a:pt x="566057" y="87086"/>
                </a:cubicBezTo>
                <a:lnTo>
                  <a:pt x="740229" y="130629"/>
                </a:lnTo>
                <a:cubicBezTo>
                  <a:pt x="805827" y="146064"/>
                  <a:pt x="844568" y="149681"/>
                  <a:pt x="914400" y="159657"/>
                </a:cubicBezTo>
                <a:lnTo>
                  <a:pt x="1088571" y="217714"/>
                </a:lnTo>
                <a:cubicBezTo>
                  <a:pt x="1122158" y="228320"/>
                  <a:pt x="1156584" y="236137"/>
                  <a:pt x="1190171" y="246743"/>
                </a:cubicBezTo>
                <a:cubicBezTo>
                  <a:pt x="1417677" y="318587"/>
                  <a:pt x="1292268" y="290385"/>
                  <a:pt x="1436914" y="319314"/>
                </a:cubicBezTo>
                <a:cubicBezTo>
                  <a:pt x="1509486" y="348343"/>
                  <a:pt x="1579474" y="384927"/>
                  <a:pt x="1654629" y="406400"/>
                </a:cubicBezTo>
                <a:lnTo>
                  <a:pt x="1756229" y="435429"/>
                </a:lnTo>
                <a:cubicBezTo>
                  <a:pt x="1770883" y="439825"/>
                  <a:pt x="1785061" y="445740"/>
                  <a:pt x="1799771" y="449943"/>
                </a:cubicBezTo>
                <a:cubicBezTo>
                  <a:pt x="1818952" y="455423"/>
                  <a:pt x="1838476" y="459619"/>
                  <a:pt x="1857829" y="464457"/>
                </a:cubicBezTo>
                <a:cubicBezTo>
                  <a:pt x="1862667" y="503162"/>
                  <a:pt x="1860008" y="543567"/>
                  <a:pt x="1872343" y="580571"/>
                </a:cubicBezTo>
                <a:cubicBezTo>
                  <a:pt x="1879993" y="603520"/>
                  <a:pt x="1907619" y="615895"/>
                  <a:pt x="1915886" y="638629"/>
                </a:cubicBezTo>
                <a:cubicBezTo>
                  <a:pt x="1927577" y="670780"/>
                  <a:pt x="1922707" y="706895"/>
                  <a:pt x="1930400" y="740229"/>
                </a:cubicBezTo>
                <a:cubicBezTo>
                  <a:pt x="1937280" y="770044"/>
                  <a:pt x="1948065" y="798904"/>
                  <a:pt x="1959429" y="827314"/>
                </a:cubicBezTo>
                <a:cubicBezTo>
                  <a:pt x="1967465" y="847403"/>
                  <a:pt x="1977175" y="866909"/>
                  <a:pt x="1988457" y="885371"/>
                </a:cubicBezTo>
                <a:cubicBezTo>
                  <a:pt x="2050552" y="986981"/>
                  <a:pt x="2101597" y="1074804"/>
                  <a:pt x="2177143" y="1161143"/>
                </a:cubicBezTo>
                <a:cubicBezTo>
                  <a:pt x="2190660" y="1176591"/>
                  <a:pt x="2203983" y="1192755"/>
                  <a:pt x="2220686" y="1204686"/>
                </a:cubicBezTo>
                <a:cubicBezTo>
                  <a:pt x="2238292" y="1217262"/>
                  <a:pt x="2259391" y="1224038"/>
                  <a:pt x="2278743" y="1233714"/>
                </a:cubicBezTo>
                <a:cubicBezTo>
                  <a:pt x="2269067" y="1257905"/>
                  <a:pt x="2275076" y="1300319"/>
                  <a:pt x="2249714" y="1306286"/>
                </a:cubicBezTo>
                <a:cubicBezTo>
                  <a:pt x="2167951" y="1325524"/>
                  <a:pt x="1977700" y="1280911"/>
                  <a:pt x="1886857" y="1262743"/>
                </a:cubicBezTo>
                <a:cubicBezTo>
                  <a:pt x="1339015" y="1277549"/>
                  <a:pt x="1509999" y="1357339"/>
                  <a:pt x="1320800" y="1262743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Rectangle à coins arrondis 6"/>
          <p:cNvGrpSpPr/>
          <p:nvPr/>
        </p:nvGrpSpPr>
        <p:grpSpPr>
          <a:xfrm>
            <a:off x="2556000" y="6237360"/>
            <a:ext cx="4017960" cy="620640"/>
            <a:chOff x="2556000" y="6237360"/>
            <a:chExt cx="4017960" cy="620640"/>
          </a:xfrm>
        </p:grpSpPr>
        <p:pic>
          <p:nvPicPr>
            <p:cNvPr id="1190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2556000" y="6237360"/>
              <a:ext cx="40179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Text Box 8"/>
            <p:cNvSpPr/>
            <p:nvPr/>
          </p:nvSpPr>
          <p:spPr>
            <a:xfrm>
              <a:off x="2619720" y="6288120"/>
              <a:ext cx="390024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iche tech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5003280" y="256500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Sommai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Les modifications budgét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Les ressources spécifiques et les ressources affec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Les réi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ZoneTexte 5"/>
          <p:cNvSpPr/>
          <p:nvPr/>
        </p:nvSpPr>
        <p:spPr>
          <a:xfrm>
            <a:off x="5724360" y="6597720"/>
            <a:ext cx="26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B2.4-1 les DBM et les réimputations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itre 1"/>
          <p:cNvSpPr/>
          <p:nvPr/>
        </p:nvSpPr>
        <p:spPr>
          <a:xfrm>
            <a:off x="5580000" y="1413000"/>
            <a:ext cx="3348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DBM et les réimp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1692000" y="1700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Références : points 1235 - 1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On différenci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Le virement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Les modifications budgétai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avec vote du cons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sans vote du cons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82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ODIFICATIONS BUDGE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Rectangle à coins arrondis 5"/>
          <p:cNvGrpSpPr/>
          <p:nvPr/>
        </p:nvGrpSpPr>
        <p:grpSpPr>
          <a:xfrm>
            <a:off x="7351560" y="1603440"/>
            <a:ext cx="1640160" cy="622080"/>
            <a:chOff x="7351560" y="1603440"/>
            <a:chExt cx="1640160" cy="622080"/>
          </a:xfrm>
        </p:grpSpPr>
        <p:pic>
          <p:nvPicPr>
            <p:cNvPr id="1200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7351560" y="1603440"/>
              <a:ext cx="16401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7405560" y="1654200"/>
              <a:ext cx="1533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222268"/>
                  </a:solidFill>
                  <a:latin typeface="Arial"/>
                </a:rPr>
                <a:t>M9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87948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Arial"/>
              </a:rPr>
              <a:t>Rappel :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le budget est voté par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virement interne au sein d’un service n’est pas une modification budgétaire. Il s’agit d’une décision de l’ordonnat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 virement reste dans le cadre de l’autorisation globale du service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il ne modifie pas le montant des crédits ouverts par serv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Objectif : diminuer le nombre de DB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5208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VIREMEN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826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ssources nouvelles spécifiques -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type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Wingdings 2"/>
                <a:ea typeface="Wingdings 2"/>
              </a:rPr>
              <a:t>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Regroupe les DBM actuelles 23, 24, 25 &amp;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onstatation des produits scolaires -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type 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Wingdings 2"/>
                <a:ea typeface="Wingdings 2"/>
              </a:rPr>
              <a:t>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Ancienne DBM type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otation aux amortisse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Amortissements neutralisés - type 291(non accessible pour les services bourses et section des opération en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Amortissements réels - type 292 (cas particulier : seule la ligne réceptrice est acce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Mouvements de stock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iminution des matières premières - type 2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Wingdings 2"/>
                <a:ea typeface="Wingdings 2"/>
              </a:rPr>
              <a:t>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une seule opération : ouverture de cré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ff0000"/>
                </a:solidFill>
                <a:latin typeface="Arial"/>
              </a:rPr>
              <a:t>Disparition des DBM type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26 : rétablissements de cré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291 :  augmentation de stocks matières premières et fournitures consommabl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293 : augmentation de stocks encours et produits fi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294 : diminution de stocks encours et produits Finis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Gill Sans MT"/>
              <a:buChar char="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ODIFICATIONS BUDGETAIRES SANS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 txBox="1"/>
          <p:nvPr/>
        </p:nvSpPr>
        <p:spPr>
          <a:xfrm>
            <a:off x="755280" y="148428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L’architecture budgétaire retenue traduira des choix locaux            ( gouvernance interne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a construction budgétaire permet de mieux traduire les spécificités de chaque E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a diminution du nombre de services spéciaux donne une plus grande marge de manœuvre et concourt à une globalisation des cré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a possibilité pour le 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</a:rPr>
              <a:t>chef d’établissement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 d’arbitrer au sein des services (Le virement interne au sein d’un service n’est pas une modification budgétaire. Il s’agit d’une décision de l’ordonnate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Arial"/>
              </a:rPr>
              <a:t>2.La gouvernance int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Virements entre services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élèvements sur fonds de roulement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ssources nouvelles non spécifiques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Wingdings 2"/>
                <a:ea typeface="Wingdings 2"/>
              </a:rPr>
              <a:t>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Possibilité de saisir des sommes en nég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ovisions pour risques, charges, dépréciations Immo, comptes de tiers, VMP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Wingdings 2"/>
                <a:ea typeface="Wingdings 2"/>
              </a:rPr>
              <a:t>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Une seule opération : ouverture de cré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éments d’actifs cédés : sortie d’inventaire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Une seule opération : ouverture de cré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oductions immobilisées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(type 3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Arial"/>
              </a:rPr>
              <a:t>Avec prévision de recettes et ouverture de cré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ODIFICATIONS BUDGETAIRES AVEC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orme libre 5"/>
          <p:cNvSpPr/>
          <p:nvPr/>
        </p:nvSpPr>
        <p:spPr>
          <a:xfrm>
            <a:off x="7024680" y="3033720"/>
            <a:ext cx="1741320" cy="1004760"/>
          </a:xfrm>
          <a:custGeom>
            <a:avLst/>
            <a:gdLst/>
            <a:ahLst/>
            <a:rect l="l" t="t" r="r" b="b"/>
            <a:pathLst>
              <a:path w="1741715" h="1005812">
                <a:moveTo>
                  <a:pt x="0" y="0"/>
                </a:moveTo>
                <a:lnTo>
                  <a:pt x="0" y="0"/>
                </a:lnTo>
                <a:cubicBezTo>
                  <a:pt x="48381" y="9676"/>
                  <a:pt x="97702" y="15474"/>
                  <a:pt x="145143" y="29028"/>
                </a:cubicBezTo>
                <a:cubicBezTo>
                  <a:pt x="165947" y="34972"/>
                  <a:pt x="182674" y="51215"/>
                  <a:pt x="203200" y="58057"/>
                </a:cubicBezTo>
                <a:cubicBezTo>
                  <a:pt x="241049" y="70673"/>
                  <a:pt x="280610" y="77409"/>
                  <a:pt x="319315" y="87085"/>
                </a:cubicBezTo>
                <a:cubicBezTo>
                  <a:pt x="338667" y="91923"/>
                  <a:pt x="358448" y="95292"/>
                  <a:pt x="377372" y="101600"/>
                </a:cubicBezTo>
                <a:cubicBezTo>
                  <a:pt x="504564" y="143997"/>
                  <a:pt x="422552" y="121690"/>
                  <a:pt x="551543" y="145143"/>
                </a:cubicBezTo>
                <a:cubicBezTo>
                  <a:pt x="575815" y="149556"/>
                  <a:pt x="599843" y="155244"/>
                  <a:pt x="624115" y="159657"/>
                </a:cubicBezTo>
                <a:cubicBezTo>
                  <a:pt x="653069" y="164921"/>
                  <a:pt x="682425" y="168005"/>
                  <a:pt x="711200" y="174171"/>
                </a:cubicBezTo>
                <a:cubicBezTo>
                  <a:pt x="750211" y="182530"/>
                  <a:pt x="788610" y="193524"/>
                  <a:pt x="827315" y="203200"/>
                </a:cubicBezTo>
                <a:lnTo>
                  <a:pt x="885372" y="217714"/>
                </a:lnTo>
                <a:cubicBezTo>
                  <a:pt x="983924" y="283416"/>
                  <a:pt x="862102" y="209252"/>
                  <a:pt x="1045029" y="275771"/>
                </a:cubicBezTo>
                <a:cubicBezTo>
                  <a:pt x="1061423" y="281732"/>
                  <a:pt x="1072538" y="297928"/>
                  <a:pt x="1088572" y="304800"/>
                </a:cubicBezTo>
                <a:cubicBezTo>
                  <a:pt x="1106907" y="312658"/>
                  <a:pt x="1127277" y="314476"/>
                  <a:pt x="1146629" y="319314"/>
                </a:cubicBezTo>
                <a:cubicBezTo>
                  <a:pt x="1305746" y="398874"/>
                  <a:pt x="1110930" y="293815"/>
                  <a:pt x="1248229" y="391885"/>
                </a:cubicBezTo>
                <a:cubicBezTo>
                  <a:pt x="1265835" y="404461"/>
                  <a:pt x="1286934" y="411238"/>
                  <a:pt x="1306286" y="420914"/>
                </a:cubicBezTo>
                <a:cubicBezTo>
                  <a:pt x="1315962" y="435428"/>
                  <a:pt x="1323726" y="451419"/>
                  <a:pt x="1335315" y="464457"/>
                </a:cubicBezTo>
                <a:cubicBezTo>
                  <a:pt x="1362589" y="495140"/>
                  <a:pt x="1399628" y="517386"/>
                  <a:pt x="1422400" y="551543"/>
                </a:cubicBezTo>
                <a:cubicBezTo>
                  <a:pt x="1432076" y="566057"/>
                  <a:pt x="1442774" y="579939"/>
                  <a:pt x="1451429" y="595085"/>
                </a:cubicBezTo>
                <a:cubicBezTo>
                  <a:pt x="1462164" y="613871"/>
                  <a:pt x="1466941" y="636247"/>
                  <a:pt x="1480457" y="653143"/>
                </a:cubicBezTo>
                <a:cubicBezTo>
                  <a:pt x="1506102" y="685200"/>
                  <a:pt x="1542911" y="707386"/>
                  <a:pt x="1567543" y="740228"/>
                </a:cubicBezTo>
                <a:cubicBezTo>
                  <a:pt x="1582057" y="759580"/>
                  <a:pt x="1595343" y="779918"/>
                  <a:pt x="1611086" y="798285"/>
                </a:cubicBezTo>
                <a:cubicBezTo>
                  <a:pt x="1713405" y="917656"/>
                  <a:pt x="1585274" y="737796"/>
                  <a:pt x="1712686" y="928914"/>
                </a:cubicBezTo>
                <a:lnTo>
                  <a:pt x="1741715" y="972457"/>
                </a:lnTo>
                <a:cubicBezTo>
                  <a:pt x="1675002" y="1005812"/>
                  <a:pt x="1705294" y="1001485"/>
                  <a:pt x="1654629" y="1001485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Rectangle à coins arrondis 7"/>
          <p:cNvGrpSpPr/>
          <p:nvPr/>
        </p:nvGrpSpPr>
        <p:grpSpPr>
          <a:xfrm>
            <a:off x="3968640" y="6199200"/>
            <a:ext cx="3870360" cy="768240"/>
            <a:chOff x="3968640" y="6199200"/>
            <a:chExt cx="3870360" cy="768240"/>
          </a:xfrm>
        </p:grpSpPr>
        <p:pic>
          <p:nvPicPr>
            <p:cNvPr id="1213" name="Rectangle à coins arrondis 7" descr=""/>
            <p:cNvPicPr/>
            <p:nvPr/>
          </p:nvPicPr>
          <p:blipFill>
            <a:blip r:embed="rId1"/>
            <a:stretch/>
          </p:blipFill>
          <p:spPr>
            <a:xfrm>
              <a:off x="3968640" y="6199200"/>
              <a:ext cx="3870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4027320" y="6257880"/>
              <a:ext cx="3754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9999"/>
                  </a:solidFill>
                  <a:latin typeface="Arial"/>
                </a:rPr>
                <a:t>Fiche technique RCBC CB 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75564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Modifications sans vot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mmédiatement exécu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Objet d’un compte-rendu en conseil d’administration &amp; information de la C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nformation de l’agent 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Modifications avec vot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xécutoires 15 jours après accusé de réception des autorités chargées du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CONDITIONS DE MISE EN ŒUVR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MODIFICATIONS BUDGET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Rectangle à coins arrondis 5"/>
          <p:cNvGrpSpPr/>
          <p:nvPr/>
        </p:nvGrpSpPr>
        <p:grpSpPr>
          <a:xfrm>
            <a:off x="5767560" y="5632560"/>
            <a:ext cx="2431800" cy="1060200"/>
            <a:chOff x="5767560" y="5632560"/>
            <a:chExt cx="2431800" cy="1060200"/>
          </a:xfrm>
        </p:grpSpPr>
        <p:pic>
          <p:nvPicPr>
            <p:cNvPr id="1219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5767560" y="5632560"/>
              <a:ext cx="243180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0" name=""/>
            <p:cNvSpPr/>
            <p:nvPr/>
          </p:nvSpPr>
          <p:spPr>
            <a:xfrm>
              <a:off x="5840280" y="5705640"/>
              <a:ext cx="228924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9999"/>
                  </a:solidFill>
                  <a:latin typeface="Arial"/>
                </a:rPr>
                <a:t>Fiche technique RCBC CB 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Arial"/>
              </a:rPr>
              <a:t>Rappel : 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découlent d’un plan d’amortissement voté en conseil d’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évus au budget initial ou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par DBM de niveau II pour les biens acquis dans l’année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: sans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amortissement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réel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ne concerne que la dépense : pas de ligne de recette ou émettrice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type 292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’amortissement </a:t>
            </a: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neutralisé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concerne la dépense 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 la recette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type 291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 : elle comprend des lignes émettrices et récep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ODIFICATIONS BUDGETAIRES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MORTIS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118728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- art. R421-66 du code de l’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- point 121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« Les produits attribués avec une destination déterminée doivent conserver leur affectat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nscription aux subdivisions budgétaires correspondant à la destination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service, domaine et activité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Inscription dans un service général, spécial ou budget  annexe selon l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uivi extrabudgétaire à mettre en place si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180800" y="115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ESSOURCES SPÉCIF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971280" y="1700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Les ressources affectées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 3 crit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Obligations réciproques entre l’EPLE et le bailleur de f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reuve du respect des engagements (</a:t>
            </a:r>
            <a:r>
              <a:rPr b="0" i="1" lang="fr-FR" sz="2400" spc="-1" strike="noStrike">
                <a:solidFill>
                  <a:srgbClr val="002060"/>
                </a:solidFill>
                <a:latin typeface="Arial"/>
              </a:rPr>
              <a:t>compte rendu financier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eversement des sommes non - utilisées sauf si le bailleur en laisse « la libre disposition » à l’E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SzPct val="9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uivi comptabl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 utilisation des comptes 4684 (produits à recevoir) &amp; 4682 (charges à p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ESSOURCES SPÉCIFIQUES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S PARTIC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1116000" y="1628640"/>
            <a:ext cx="772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conditions de mise en œu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ans le seul cas de la diminution de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igne non ouverte au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ouverture des crédits aux comptes 6031 ou 6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saisie de montant négatif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ODIFICATIONS BUDGETAIRES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971280" y="134136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Référence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oints :1512 -151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oints :1681 - 1682 - 1683 &amp; 16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éfinition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Selon la définition reprise dans l’instruction M9.6, le stock est un actif c’est-à-dire un élément identifiable du patrimoine ayant une valeur positive dont l’EPLE attend des avantages futu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Constant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Obligation de suivre les stocks dans une comptabilité auxili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Préalabl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</a:rPr>
              <a:t>Les stocks sont intégrés dans les calculs du BFR &amp; du FDR : nécessité de procéder à un nettoyage des inventaires notamment dans les stocks de produits fin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Espace réservé du pied de page 5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STOCKS : préam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Rectangle à coins arrondis 5"/>
          <p:cNvGrpSpPr/>
          <p:nvPr/>
        </p:nvGrpSpPr>
        <p:grpSpPr>
          <a:xfrm>
            <a:off x="5675400" y="1268280"/>
            <a:ext cx="1566720" cy="541440"/>
            <a:chOff x="5675400" y="1268280"/>
            <a:chExt cx="1566720" cy="541440"/>
          </a:xfrm>
        </p:grpSpPr>
        <p:pic>
          <p:nvPicPr>
            <p:cNvPr id="1237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5675400" y="1268280"/>
              <a:ext cx="15667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5722920" y="1319040"/>
              <a:ext cx="1468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M 9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Rectangle à coins arrondis 6"/>
          <p:cNvGrpSpPr/>
          <p:nvPr/>
        </p:nvGrpSpPr>
        <p:grpSpPr>
          <a:xfrm>
            <a:off x="5297400" y="1847880"/>
            <a:ext cx="1908360" cy="487440"/>
            <a:chOff x="5297400" y="1847880"/>
            <a:chExt cx="1908360" cy="487440"/>
          </a:xfrm>
        </p:grpSpPr>
        <p:pic>
          <p:nvPicPr>
            <p:cNvPr id="1240" name="Rectangle à coins arrondis 6" descr=""/>
            <p:cNvPicPr/>
            <p:nvPr/>
          </p:nvPicPr>
          <p:blipFill>
            <a:blip r:embed="rId2"/>
            <a:stretch/>
          </p:blipFill>
          <p:spPr>
            <a:xfrm>
              <a:off x="5297400" y="1847880"/>
              <a:ext cx="1908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5688000" y="1898640"/>
              <a:ext cx="1469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M 9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1042920" y="119700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</a:rPr>
              <a:t>Stocks matières premières et autres approvisionnement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(suivi budgét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Denrées alimentair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service spécial restauration ou budget ann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Denrées alimentaires hôtellerie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service activités pédag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Matières d’œuvre pédago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service activités pédag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</a:rPr>
              <a:t>Stocks en cours et produits fini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: (suivi budgét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Objets confectionn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service activités pédag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Espace réservé du pied de page 5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52080" y="11556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STOCKS : différents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isparition des DBM de type 291 &amp; 292 remplacées par une seule DBM de nivea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Uniquement pour la diminution du stock de matières premières et autres approvisionn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Les comptes de la classe 3 ne sont plus saisis en comptabilité budgé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n fin d’exercice, la comptabilité générale retraçant les stocks (classe 3) est mouvementée suite à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es mandats ou ordres de reversement en clas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es ordres de recettes ou des réductions de recettes en clas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252080" y="189000"/>
            <a:ext cx="78915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STOCKS :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8064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echnique budgétaire :  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utilisation des domaines et/ou activités. En dépense, les comptes du PCG sont saisis seulement lors de la liqui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maine : VSTOCK - variation Stocks matières pre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maine : VECOUR - variation en cour d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Activité : 0</a:t>
            </a:r>
            <a:r>
              <a:rPr b="0" lang="fr-FR" sz="1800" spc="-1" strike="noStrike">
                <a:solidFill>
                  <a:srgbClr val="fa0c06"/>
                </a:solidFill>
                <a:latin typeface="Arial"/>
              </a:rPr>
              <a:t>DIMI</a:t>
            </a:r>
            <a:r>
              <a:rPr b="0" lang="fr-FR" sz="1800" spc="-1" strike="noStrike">
                <a:solidFill>
                  <a:srgbClr val="0cd211"/>
                </a:solidFill>
                <a:latin typeface="Arial"/>
              </a:rPr>
              <a:t>xxxx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cd21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inution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ode imposé</a:t>
            </a: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b050"/>
                </a:solidFill>
                <a:latin typeface="Arial"/>
              </a:rPr>
              <a:t>code li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Activité : 0</a:t>
            </a:r>
            <a:r>
              <a:rPr b="0" lang="fr-FR" sz="1800" spc="-1" strike="noStrike">
                <a:solidFill>
                  <a:srgbClr val="fa0c06"/>
                </a:solidFill>
                <a:latin typeface="Arial"/>
              </a:rPr>
              <a:t>AUGM</a:t>
            </a:r>
            <a:r>
              <a:rPr b="0" lang="fr-FR" sz="1800" spc="-1" strike="noStrike">
                <a:solidFill>
                  <a:srgbClr val="0cd211"/>
                </a:solidFill>
                <a:latin typeface="Arial"/>
              </a:rPr>
              <a:t>xxxx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cd21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gmentation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code imposé</a:t>
            </a: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b050"/>
                </a:solidFill>
                <a:latin typeface="Arial"/>
              </a:rPr>
              <a:t>code li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2060"/>
                </a:solidFill>
                <a:uFillTx/>
                <a:latin typeface="Arial"/>
              </a:rPr>
              <a:t>Stocks matières premières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iminution du stock : mandat au compte 6031 ou 6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Augmentation du stock : ordre de reversement au compte 6031 ou 6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2060"/>
                </a:solidFill>
                <a:uFillTx/>
                <a:latin typeface="Arial"/>
              </a:rPr>
              <a:t>Stocks produits finis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iminution du stock : ordre de réduction de recettes au compte 7133 ou 7134 ou 7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Augmentation du stock : ordre de recettes au compte 7133 ou 7134 ou 7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5208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STOCKS : écritures budgét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6227640" y="2852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Espace réservé du pied de page 4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971280" y="134136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Deux acteurs et deux cadres bien distinc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ef d’établissement/ordonnate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dispose d’un cadre budgétaire par destination, et établit de manière simplifiée les engagements par dest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L’agent comptab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t le cadre de la dépense est par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Arial"/>
              </a:rPr>
              <a:t>Une gouvernance responsable impliquant les acteurs de la chaîne budgétaire et comptab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la qualité comptable implique à la fois l’ordonnateur et le comptable ( contrôle interne comptable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d"/>
                </a:solidFill>
                <a:latin typeface="Arial"/>
              </a:rPr>
              <a:t>3. Deux cadres : l’un, budgétaire par destination,</a:t>
            </a:r>
            <a:br>
              <a:rPr sz="2400"/>
            </a:br>
            <a:r>
              <a:rPr b="1" lang="fr-FR" sz="2400" spc="-1" strike="noStrike">
                <a:solidFill>
                  <a:srgbClr val="6600cd"/>
                </a:solidFill>
                <a:latin typeface="Arial"/>
              </a:rPr>
              <a:t>l’autre, comptable par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minution stock de denrées : 1000€ (Constaté au 31/12/2011)  =&gt; On doit acter la charge supplé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BM pour ouvrir les crédits au domaine VESTOCK Activité 0DI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dat avec saisie du compte 603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harge du mandat chez le comptable : Débit 6031 – Crédit 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gmentation stock de denrées : 1000€ (Constaté au 31/12/2011)  =&gt; On doit acter la diminution de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dre de reversement  domaine VESTOCK 0AUGM  compte 60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harge du comptable Crédit 6031- Débit du 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1692360" y="26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variation Stocks matières premiè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minution stock : (Constaté au 31/12/2011) 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e recettes avec saisie VECOUR Activité 0DIMI du compte 71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harge du mandat chez le comptable : Débit 7135 – Crédit 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gmentation stock : (Constaté au 31/12/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dre de Recette domaine VECOUR Activité  0AUGM  compte 71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harge du comptable Crédit 7135- Débit du 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4"/>
          <p:cNvSpPr/>
          <p:nvPr/>
        </p:nvSpPr>
        <p:spPr>
          <a:xfrm>
            <a:off x="1692360" y="26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variation Stocks de produits f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Espace réservé du pied de page 2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52080" y="189000"/>
            <a:ext cx="78915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STOCKS : exerc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rme libre 5"/>
          <p:cNvSpPr/>
          <p:nvPr/>
        </p:nvSpPr>
        <p:spPr>
          <a:xfrm>
            <a:off x="2700360" y="2235240"/>
            <a:ext cx="536400" cy="115920"/>
          </a:xfrm>
          <a:custGeom>
            <a:avLst/>
            <a:gdLst/>
            <a:ahLst/>
            <a:rect l="l" t="t" r="r" b="b"/>
            <a:pathLst>
              <a:path w="537029" h="116114">
                <a:moveTo>
                  <a:pt x="0" y="0"/>
                </a:moveTo>
                <a:cubicBezTo>
                  <a:pt x="72571" y="14514"/>
                  <a:pt x="146553" y="23212"/>
                  <a:pt x="217714" y="43543"/>
                </a:cubicBezTo>
                <a:cubicBezTo>
                  <a:pt x="231611" y="47513"/>
                  <a:pt x="345679" y="81324"/>
                  <a:pt x="377372" y="87086"/>
                </a:cubicBezTo>
                <a:cubicBezTo>
                  <a:pt x="411031" y="93206"/>
                  <a:pt x="445313" y="95480"/>
                  <a:pt x="478972" y="101600"/>
                </a:cubicBezTo>
                <a:cubicBezTo>
                  <a:pt x="498598" y="105168"/>
                  <a:pt x="537029" y="116114"/>
                  <a:pt x="537029" y="116114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Rectangle à coins arrondis 6"/>
          <p:cNvGrpSpPr/>
          <p:nvPr/>
        </p:nvGrpSpPr>
        <p:grpSpPr>
          <a:xfrm>
            <a:off x="3389400" y="1457280"/>
            <a:ext cx="2219400" cy="1432080"/>
            <a:chOff x="3389400" y="1457280"/>
            <a:chExt cx="2219400" cy="1432080"/>
          </a:xfrm>
        </p:grpSpPr>
        <p:pic>
          <p:nvPicPr>
            <p:cNvPr id="1263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3389400" y="1457280"/>
              <a:ext cx="2219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3479760" y="1544760"/>
              <a:ext cx="20401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9999"/>
                  </a:solidFill>
                  <a:latin typeface="Arial"/>
                </a:rPr>
                <a:t>Exercice RCBC 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Rectangle à coins arrondis 7"/>
          <p:cNvGrpSpPr/>
          <p:nvPr/>
        </p:nvGrpSpPr>
        <p:grpSpPr>
          <a:xfrm>
            <a:off x="3389400" y="3833640"/>
            <a:ext cx="2219400" cy="1433520"/>
            <a:chOff x="3389400" y="3833640"/>
            <a:chExt cx="2219400" cy="1433520"/>
          </a:xfrm>
        </p:grpSpPr>
        <p:pic>
          <p:nvPicPr>
            <p:cNvPr id="1266" name="Rectangle à coins arrondis 7" descr=""/>
            <p:cNvPicPr/>
            <p:nvPr/>
          </p:nvPicPr>
          <p:blipFill>
            <a:blip r:embed="rId2"/>
            <a:stretch/>
          </p:blipFill>
          <p:spPr>
            <a:xfrm>
              <a:off x="3389400" y="3833640"/>
              <a:ext cx="22194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3479760" y="3921120"/>
              <a:ext cx="20401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9999"/>
                  </a:solidFill>
                  <a:latin typeface="Arial"/>
                </a:rPr>
                <a:t>Corrigé RCBC 27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1547640" y="1484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. : points 14471 &amp; 14441 - aliné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Deux types de réi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imputation budgé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imputation 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REIMP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Rectangle à coins arrondis 5"/>
          <p:cNvGrpSpPr/>
          <p:nvPr/>
        </p:nvGrpSpPr>
        <p:grpSpPr>
          <a:xfrm>
            <a:off x="7205760" y="1962000"/>
            <a:ext cx="1749240" cy="702000"/>
            <a:chOff x="7205760" y="1962000"/>
            <a:chExt cx="1749240" cy="702000"/>
          </a:xfrm>
        </p:grpSpPr>
        <p:pic>
          <p:nvPicPr>
            <p:cNvPr id="1272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7205760" y="1962000"/>
              <a:ext cx="174924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3" name=""/>
            <p:cNvSpPr/>
            <p:nvPr/>
          </p:nvSpPr>
          <p:spPr>
            <a:xfrm>
              <a:off x="7264440" y="2017800"/>
              <a:ext cx="1635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9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1042560" y="1557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Réimputation budgétair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modifie le domaine et/ou l’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n’a aucun impact sur la comptabilité géné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n’entraine aucun transfert en comptabilité géné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Arial"/>
              </a:rPr>
              <a:t>Réimputation comptable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modifie le service et/ou le com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implique un transfert en comptabilité géné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5208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EIMPUTATION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 L’INITIATIVE DE L’ORDONN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1186920" y="1484280"/>
            <a:ext cx="785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Possibilité ouverte par la RC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Ne concerne que le PCG et non la réimputation d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Affirmation de la responsabilité du comptable sur la bonne i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permet de diminuer le  nombre de rejets et de respecter les délais de pai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Elle implique un transfert des fichiers vers l’ordon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Ce dernier ne peut que l’acce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Espace réservé du pied de page 3"/>
          <p:cNvSpPr/>
          <p:nvPr/>
        </p:nvSpPr>
        <p:spPr>
          <a:xfrm>
            <a:off x="1042920" y="6597720"/>
            <a:ext cx="3537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5c5c5c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EIMPUTATIONS 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L’INITIATIVE DU COM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Espace réservé du pied de page 5"/>
          <p:cNvSpPr/>
          <p:nvPr/>
        </p:nvSpPr>
        <p:spPr>
          <a:xfrm>
            <a:off x="1403280" y="6597720"/>
            <a:ext cx="2895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606060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ZoneTexte 1"/>
          <p:cNvSpPr/>
          <p:nvPr/>
        </p:nvSpPr>
        <p:spPr>
          <a:xfrm>
            <a:off x="1763640" y="83664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rapport  de l’ordonnateur et de l’agent comp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ZoneTexte 2"/>
          <p:cNvSpPr/>
          <p:nvPr/>
        </p:nvSpPr>
        <p:spPr>
          <a:xfrm>
            <a:off x="1584360" y="2349360"/>
            <a:ext cx="68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Il comprend deux parties distinc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- un compte rendu sur l’exécution budgéta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- un compte rendu de l’exécution 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Espace réservé du pied de page 5"/>
          <p:cNvSpPr/>
          <p:nvPr/>
        </p:nvSpPr>
        <p:spPr>
          <a:xfrm>
            <a:off x="1403280" y="6597720"/>
            <a:ext cx="2895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606060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ZoneTexte 1"/>
          <p:cNvSpPr/>
          <p:nvPr/>
        </p:nvSpPr>
        <p:spPr>
          <a:xfrm>
            <a:off x="1476360" y="47628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rapport : partie budgétaire (pièce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ZoneTexte 2"/>
          <p:cNvSpPr/>
          <p:nvPr/>
        </p:nvSpPr>
        <p:spPr>
          <a:xfrm>
            <a:off x="736560" y="1247760"/>
            <a:ext cx="815652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Le compte rendu de gestion est rédigé et présenté par l’ordonnateur (point 33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il explique les différences entre le budget initial, les modifications budgétaires intervenues et le niveau réel des opérations de recettes et de dépenses pour chaqu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il rend compte de l’utilisation des subventions spécifiques accordées par l’Etat et la colle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Il rapproche éventuellement les données financières des informations de gestion (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 nombre d’élèves, le nombre de boursiers, demi-pensionnaires, internes, la superficie de l’établissemen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L’information relative au montant de la masse salariale permet la détermination des coûts glob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Espace réservé du pied de page 5"/>
          <p:cNvSpPr/>
          <p:nvPr/>
        </p:nvSpPr>
        <p:spPr>
          <a:xfrm>
            <a:off x="1403280" y="6597720"/>
            <a:ext cx="2895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606060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ZoneTexte 1"/>
          <p:cNvSpPr/>
          <p:nvPr/>
        </p:nvSpPr>
        <p:spPr>
          <a:xfrm>
            <a:off x="285840" y="105264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rapport : partie com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n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rtie de la pièce 9 ou pièce 9 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ZoneTexte 2"/>
          <p:cNvSpPr/>
          <p:nvPr/>
        </p:nvSpPr>
        <p:spPr>
          <a:xfrm>
            <a:off x="896760" y="2073240"/>
            <a:ext cx="806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Elle présente l’évolution de la situation comptable de l’établissement au travers notamment des données relatives à l’exercice (résultat, CAF et variation du FdR) ainsi que celles relatives à l’évolution du bilan (FdR, BFdR, trésorerie, provisions, dettes et créances…)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Le rapprochement sur 5 ans des différents ratios proposés dans la pièce 14 permet de suivre l’évolution financière de l’E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 txBox="1"/>
          <p:nvPr/>
        </p:nvSpPr>
        <p:spPr>
          <a:xfrm>
            <a:off x="971280" y="134136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Le gestionnaire met en œuvre une démarche de contrôle de gestion ( objectifs, moyens, résult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ossibilité de compte rendu par financeur (</a:t>
            </a:r>
            <a:r>
              <a:rPr b="1" lang="fr-FR" sz="2000" spc="-1" strike="noStrike">
                <a:solidFill>
                  <a:srgbClr val="33339a"/>
                </a:solidFill>
                <a:latin typeface="Arial"/>
              </a:rPr>
              <a:t>Etat, collectivit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rapport de gestion de l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donnateu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il              d’administrat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’exécution et la maîtrise du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ossibilité de présenter le budget en coûts complets ( masse salariale des personnels de l’état et des C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d"/>
                </a:solidFill>
                <a:latin typeface="Arial"/>
              </a:rPr>
              <a:t>4. L’exécution budgétaire et les indicateurs</a:t>
            </a:r>
            <a:br>
              <a:rPr sz="2400"/>
            </a:br>
            <a:r>
              <a:rPr b="1" lang="fr-FR" sz="2400" spc="-1" strike="noStrike">
                <a:solidFill>
                  <a:srgbClr val="6600cd"/>
                </a:solidFill>
                <a:latin typeface="Arial"/>
              </a:rPr>
              <a:t>d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 txBox="1"/>
          <p:nvPr/>
        </p:nvSpPr>
        <p:spPr>
          <a:xfrm>
            <a:off x="971280" y="1341360"/>
            <a:ext cx="79628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•  </a:t>
            </a: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La comptabilité générale doit être au service du pilotage fina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mesures prises tout au long de l’exercice seront mesurables grâce aux indicateurs financiers suivants : résultat, capacité d’autofinancement, fonds de roulement,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Objectif: Donner au conseil d’administration les outils pour établir une politique d’établ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Espace réservé du pied de page 6"/>
          <p:cNvSpPr/>
          <p:nvPr/>
        </p:nvSpPr>
        <p:spPr>
          <a:xfrm>
            <a:off x="3348000" y="6021360"/>
            <a:ext cx="33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898989"/>
                </a:solidFill>
                <a:latin typeface="Arial"/>
              </a:rPr>
              <a:t>Formation RCBC DAF/Esen - octobre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cd"/>
                </a:solidFill>
                <a:latin typeface="Arial"/>
              </a:rPr>
              <a:t>5. Le pilotage financier de l’établ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2:11Z</dcterms:created>
  <dc:creator>Picon</dc:creator>
  <dc:description/>
  <dc:language>en-US</dc:language>
  <cp:lastModifiedBy>MLPaulet</cp:lastModifiedBy>
  <dcterms:modified xsi:type="dcterms:W3CDTF">2012-04-10T15:10:34Z</dcterms:modified>
  <cp:revision>315</cp:revision>
  <dc:subject/>
  <dc:title>LA REFORME DU CADRE BUDGETAIRE ET COMPTABLE</dc:title>
</cp:coreProperties>
</file>